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D572415-1543-480D-A6A5-19309A8A8E0D}" type="doc">
      <dgm:prSet loTypeId="urn:microsoft.com/office/officeart/2005/8/layout/funnel1" loCatId="process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en-SG"/>
        </a:p>
      </dgm:t>
    </dgm:pt>
    <dgm:pt modelId="{EEB7130B-CF67-43BD-9BA5-BC0810802DD3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اص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F3BA826-7A0A-448F-9100-4405E4B4DBCE}" type="par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F90F371E-53FE-4FD8-9F0A-4232E191DE95}" type="sib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249E04F8-C3B8-4E2D-9C49-A64FBE70EDED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تکمی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2E8FE2-BB01-4AAA-AF9A-1A3602D02704}" type="par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16BD8BB-7752-4672-8B8D-62DC0595A7DA}" type="sib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AA16E9-D2FE-4752-9BAB-366051CC16FD}">
      <dgm:prSet phldrT="[Text]" custT="1"/>
      <dgm:spPr/>
      <dgm:t>
        <a:bodyPr/>
        <a:lstStyle/>
        <a:p>
          <a:pPr marL="0" marR="0" lvl="0" indent="0" algn="ctr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fa-IR" sz="2800" b="1" smtClean="0">
              <a:solidFill>
                <a:schemeClr val="tx1"/>
              </a:solidFill>
              <a:cs typeface="B Nazanin" panose="00000400000000000000" pitchFamily="2" charset="-78"/>
            </a:rPr>
            <a:t>محتویات کیف</a:t>
          </a:r>
        </a:p>
        <a:p>
          <a:pPr lvl="0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01414706-E5F1-43FE-9F31-3E23016D458A}" type="sib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1B6D747-FCD4-44FB-A4BB-BD6045973B12}" type="par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5C3729F-71C6-4F62-A637-8A5DAEA5D86D}" type="pres">
      <dgm:prSet presAssocID="{1D572415-1543-480D-A6A5-19309A8A8E0D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1E2A69D0-05A0-4D3E-BBE5-C72CBFDE966E}" type="pres">
      <dgm:prSet presAssocID="{1D572415-1543-480D-A6A5-19309A8A8E0D}" presName="ellipse" presStyleLbl="trBgShp" presStyleIdx="0" presStyleCnt="1"/>
      <dgm:spPr/>
    </dgm:pt>
    <dgm:pt modelId="{AEBC9CB9-2A08-43B8-8BA5-E70143690A38}" type="pres">
      <dgm:prSet presAssocID="{1D572415-1543-480D-A6A5-19309A8A8E0D}" presName="arrow1" presStyleLbl="fgShp" presStyleIdx="0" presStyleCnt="1"/>
      <dgm:spPr/>
    </dgm:pt>
    <dgm:pt modelId="{034C8D08-D90F-4D1A-8A95-407915CEFCBF}" type="pres">
      <dgm:prSet presAssocID="{1D572415-1543-480D-A6A5-19309A8A8E0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137A061-FA6F-4E60-BE8F-411187B36BD3}" type="pres">
      <dgm:prSet presAssocID="{249E04F8-C3B8-4E2D-9C49-A64FBE70EDED}" presName="item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7FF2573-11A8-4935-80BB-AD4FF4B0BB89}" type="pres">
      <dgm:prSet presAssocID="{B4AA16E9-D2FE-4752-9BAB-366051CC16FD}" presName="item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5C609B2-7576-4D50-8FCD-8F6F93E8E4B6}" type="pres">
      <dgm:prSet presAssocID="{1D572415-1543-480D-A6A5-19309A8A8E0D}" presName="funnel" presStyleLbl="trAlignAcc1" presStyleIdx="0" presStyleCnt="1"/>
      <dgm:spPr/>
    </dgm:pt>
  </dgm:ptLst>
  <dgm:cxnLst>
    <dgm:cxn modelId="{F0C7B147-98D7-42C5-BE27-F9416B717F41}" srcId="{1D572415-1543-480D-A6A5-19309A8A8E0D}" destId="{B4AA16E9-D2FE-4752-9BAB-366051CC16FD}" srcOrd="2" destOrd="0" parTransId="{81B6D747-FCD4-44FB-A4BB-BD6045973B12}" sibTransId="{01414706-E5F1-43FE-9F31-3E23016D458A}"/>
    <dgm:cxn modelId="{D0223927-3F97-4A25-8794-0C7E236C1398}" srcId="{1D572415-1543-480D-A6A5-19309A8A8E0D}" destId="{249E04F8-C3B8-4E2D-9C49-A64FBE70EDED}" srcOrd="1" destOrd="0" parTransId="{B42E8FE2-BB01-4AAA-AF9A-1A3602D02704}" sibTransId="{416BD8BB-7752-4672-8B8D-62DC0595A7DA}"/>
    <dgm:cxn modelId="{9DCB18EC-821A-4558-ADDA-03593FBBD574}" type="presOf" srcId="{1D572415-1543-480D-A6A5-19309A8A8E0D}" destId="{45C3729F-71C6-4F62-A637-8A5DAEA5D86D}" srcOrd="0" destOrd="0" presId="urn:microsoft.com/office/officeart/2005/8/layout/funnel1"/>
    <dgm:cxn modelId="{6EC79895-CF7E-40B7-BA0C-6D0385DCF650}" type="presOf" srcId="{B4AA16E9-D2FE-4752-9BAB-366051CC16FD}" destId="{034C8D08-D90F-4D1A-8A95-407915CEFCBF}" srcOrd="0" destOrd="0" presId="urn:microsoft.com/office/officeart/2005/8/layout/funnel1"/>
    <dgm:cxn modelId="{23AC0726-02A7-4BA8-9371-E403BB666839}" type="presOf" srcId="{EEB7130B-CF67-43BD-9BA5-BC0810802DD3}" destId="{07FF2573-11A8-4935-80BB-AD4FF4B0BB89}" srcOrd="0" destOrd="0" presId="urn:microsoft.com/office/officeart/2005/8/layout/funnel1"/>
    <dgm:cxn modelId="{BF98ADFB-39CD-4423-83C8-9B7884CF12A3}" srcId="{1D572415-1543-480D-A6A5-19309A8A8E0D}" destId="{EEB7130B-CF67-43BD-9BA5-BC0810802DD3}" srcOrd="0" destOrd="0" parTransId="{8F3BA826-7A0A-448F-9100-4405E4B4DBCE}" sibTransId="{F90F371E-53FE-4FD8-9F0A-4232E191DE95}"/>
    <dgm:cxn modelId="{1A620D64-5B3C-4D85-A24A-C5972BF2964F}" type="presOf" srcId="{249E04F8-C3B8-4E2D-9C49-A64FBE70EDED}" destId="{9137A061-FA6F-4E60-BE8F-411187B36BD3}" srcOrd="0" destOrd="0" presId="urn:microsoft.com/office/officeart/2005/8/layout/funnel1"/>
    <dgm:cxn modelId="{DD3C1308-7B4D-419B-927F-BA84364C83DB}" type="presParOf" srcId="{45C3729F-71C6-4F62-A637-8A5DAEA5D86D}" destId="{1E2A69D0-05A0-4D3E-BBE5-C72CBFDE966E}" srcOrd="0" destOrd="0" presId="urn:microsoft.com/office/officeart/2005/8/layout/funnel1"/>
    <dgm:cxn modelId="{ABB1F97B-E0E5-41DC-9214-0C55FB87BCD8}" type="presParOf" srcId="{45C3729F-71C6-4F62-A637-8A5DAEA5D86D}" destId="{AEBC9CB9-2A08-43B8-8BA5-E70143690A38}" srcOrd="1" destOrd="0" presId="urn:microsoft.com/office/officeart/2005/8/layout/funnel1"/>
    <dgm:cxn modelId="{2C537C87-B641-4389-B4F9-CC79C6D9CFD7}" type="presParOf" srcId="{45C3729F-71C6-4F62-A637-8A5DAEA5D86D}" destId="{034C8D08-D90F-4D1A-8A95-407915CEFCBF}" srcOrd="2" destOrd="0" presId="urn:microsoft.com/office/officeart/2005/8/layout/funnel1"/>
    <dgm:cxn modelId="{426ED9CF-4C0D-4CEB-A016-0FA0AF17BD1C}" type="presParOf" srcId="{45C3729F-71C6-4F62-A637-8A5DAEA5D86D}" destId="{9137A061-FA6F-4E60-BE8F-411187B36BD3}" srcOrd="3" destOrd="0" presId="urn:microsoft.com/office/officeart/2005/8/layout/funnel1"/>
    <dgm:cxn modelId="{613C91DF-5A86-4124-BF69-823911CC1923}" type="presParOf" srcId="{45C3729F-71C6-4F62-A637-8A5DAEA5D86D}" destId="{07FF2573-11A8-4935-80BB-AD4FF4B0BB89}" srcOrd="4" destOrd="0" presId="urn:microsoft.com/office/officeart/2005/8/layout/funnel1"/>
    <dgm:cxn modelId="{D823CE8B-D787-4EA9-8544-78FCD5989358}" type="presParOf" srcId="{45C3729F-71C6-4F62-A637-8A5DAEA5D86D}" destId="{85C609B2-7576-4D50-8FCD-8F6F93E8E4B6}" srcOrd="5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52A6-A7AF-4FB6-850D-CED7EE44D0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8F39-6C70-4A14-8CE5-95AB5665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E929-CAB0-4D01-A1E1-545FE5D6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FAA8-011B-4D1C-AAFD-8A5AD1847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21F71-76B8-4980-9FF0-E92708D8BC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3E9B6-5109-4DB0-90F2-26BA8FEAFB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8FDD-B032-4765-9A7D-1BA49EBB66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AA6B8-7403-4A0C-ACA9-DB6C82F509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52243-0B02-4548-9992-8967B53583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B0ACD-DFE8-4988-8FEA-704AAFECAF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D2BEE-2DC6-4384-AC26-B4584A89D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AE77-2327-4015-95D6-CA0D0469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7A62D-79C5-442E-8C3F-3742EE2173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C067A-EDA0-45F7-B1E0-CA4720AEBA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7DB57-0264-4B4C-A46A-B9C0059294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C0514-0E31-4EA4-ADF2-3FE2F16BA2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0B5EE-8CC2-48B6-B327-87B768D2CC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4E809-255E-4746-A2AE-588A8001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DE9B9-F810-4466-80E0-90915814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B85E0-55E6-4D66-AF34-BA6FA82D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C5BC1-CDEE-4261-BB4F-33EC0F09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223C1-1B6B-40E9-88B9-E3184FA7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4616-BB80-4530-A711-53853132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14FA7-64AF-4505-9509-5E8B355D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A69A1-8D00-491C-951F-927B12D9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67DDF-D632-4BFC-92E2-0684AF2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10CAD-97D5-4AE4-958B-E87EEC02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BB0397-34A6-4725-ADEF-5774681B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DE8B5-B005-4CFE-ACA6-526F5C7A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C7DA7-D9D3-4CA4-B7D2-90AC9147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2C4A-30DB-40D6-804D-CF8B01E6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A809-C182-41CD-82BD-3729E853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998B-8741-4AB8-8BC7-1CF69465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BD3C-12D7-49DC-A9DE-821122C2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9C0E-827B-47B4-90E0-BB7110D1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1033-EE6B-4BB4-852C-42AA2FE3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4EE9FF-A2E1-49D8-84E8-D87103D132F0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Footer Placeholder 4"/>
          <p:cNvSpPr/>
          <p:nvPr/>
        </p:nvSpPr>
        <p:spPr>
          <a:xfrm>
            <a:off x="3844440" y="6629400"/>
            <a:ext cx="4822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2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9BE4CD-5027-4625-9218-E1979A5A69BF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7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52F0AB-F00C-4732-BA33-E998162F345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کیف نجات خانواد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E2FF-7306-4D4C-BC85-F1420B944E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شرایط نگهداری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جای خشک و خنک: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1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ا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درج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زدیک مسیر خروج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خودرو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در پوشش ضد آب باش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ک کردن کیف در زمانهای منظم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Image result for Emergency family kit in car"/>
          <p:cNvPicPr/>
          <p:nvPr/>
        </p:nvPicPr>
        <p:blipFill>
          <a:blip r:embed="rId1"/>
          <a:stretch/>
        </p:blipFill>
        <p:spPr>
          <a:xfrm>
            <a:off x="335520" y="2205000"/>
            <a:ext cx="4874040" cy="32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71DBF-5B8F-4FAD-8980-BDFFCA82D7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2303640" y="1766520"/>
            <a:ext cx="7670520" cy="43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9802B-DC19-438C-AE9F-86961A07C5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9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E3A5C-183D-4097-9442-6B4681FEE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نحوه تهیه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هیه چک لیستی از وسایل مورد نیاز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ماده کردن وسایل مطابق با لیست تهیه شد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سته بندی همه وسایل و جاگذاری در کیف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قابل شستشو و قابل حمل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-265" t="0" r="0" b="0"/>
          <a:stretch/>
        </p:blipFill>
        <p:spPr>
          <a:xfrm>
            <a:off x="638280" y="1805040"/>
            <a:ext cx="4196160" cy="418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C27B8-8E1C-4E7A-9737-342C2C5DAE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63900787"/>
              </p:ext>
            </p:extLst>
          </p:nvPr>
        </p:nvGraphicFramePr>
        <p:xfrm>
          <a:off x="1557360" y="223920"/>
          <a:ext cx="8966520" cy="656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5F6259-AE19-48A0-9843-81BEFB924D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3360" y="1196640"/>
            <a:ext cx="718488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ب برای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به ازای هر فرد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لیتر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غذا غیر فاسدشدنی  برای حداقل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: کنسرو، نان خشک و  بیسکویت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عبه کمکهای اولی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ادیو و باتر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686880" y="4094280"/>
            <a:ext cx="3198600" cy="22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686880" y="1535040"/>
            <a:ext cx="3198600" cy="24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66B99-CE62-48FD-B4D6-53C98EE89B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380600"/>
            <a:ext cx="11088720" cy="509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8360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راغ قو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وت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لفن همراه با شارژر و باتری پشتیبان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سک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در مسافرتی یا مشمع و نوار چس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ب بازکن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قشه های محل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886680" y="1671120"/>
            <a:ext cx="3264120" cy="451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F610B-F81D-444F-AD79-48FED8BC71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 شخصی:صابون، ضد عفونی کننده دست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ی مورد نیاز بانوان، کودکان و سالمندان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داروهای بدون نسخه: مسکن، ضد تهوع و اسهال، داروهای ضداسید معده، پمادهای موضعی و ...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کیسه خواب یا پتو گرم برای هر شخص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25880" y="1759680"/>
            <a:ext cx="2854080" cy="22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A8764-F79E-4D4E-9827-A7D3469EC2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لباس متناسب با آب و هوا و کفشهای محکم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مهم: کپی بیمه نامه ها ، شناسنامه و سوابق حساب بانکی و ... 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پسول آتش نشانی کوچک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باب بازی و سرگرمی برای گودکان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تاب های مورد علاقه : ادعیه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079280" y="3815280"/>
            <a:ext cx="2878560" cy="22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F71CA-9367-4AEC-B054-D12FEC7C6D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ubtitle 1"/>
          <p:cNvSpPr/>
          <p:nvPr/>
        </p:nvSpPr>
        <p:spPr>
          <a:xfrm>
            <a:off x="2882880" y="1533960"/>
            <a:ext cx="907056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77" strike="noStrike">
                <a:solidFill>
                  <a:srgbClr val="000000"/>
                </a:solidFill>
                <a:latin typeface="Calibri"/>
                <a:cs typeface="B Nazanin"/>
              </a:rPr>
              <a:t>تجهیزات کنترل قند خو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سول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وم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وار تست ق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اگ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یخ خش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نبه الک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43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mage result for ‫ویال گلوکاگون‬‎"/>
          <p:cNvPicPr/>
          <p:nvPr/>
        </p:nvPicPr>
        <p:blipFill>
          <a:blip r:embed="rId1"/>
          <a:stretch/>
        </p:blipFill>
        <p:spPr>
          <a:xfrm>
            <a:off x="893520" y="4435560"/>
            <a:ext cx="3860280" cy="198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 result for ‫دستگاه گلوکومتر‬‎"/>
          <p:cNvPicPr/>
          <p:nvPr/>
        </p:nvPicPr>
        <p:blipFill>
          <a:blip r:embed="rId2"/>
          <a:stretch/>
        </p:blipFill>
        <p:spPr>
          <a:xfrm>
            <a:off x="1079280" y="1886760"/>
            <a:ext cx="2995920" cy="196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A78AD-D44E-4533-9CED-333E1C1B9D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580</TotalTime>
  <Application>LibreOffice/7.4.7.2$Linux_X86_64 LibreOffice_project/40$Build-2</Application>
  <AppVersion>15.0000</AppVersion>
  <Words>26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01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1</vt:r8>
  </property>
</Properties>
</file>