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5FA61-7409-4D3E-BE7F-4B8C67B429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40008-E783-4EBB-9736-AC456B27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81BF7-78EC-4F5D-B364-06BE2DD4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C9109-1894-4CB5-B171-F5A3EF6EC0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08053-5CD9-4F55-9B98-3AED2FC1F3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1DA33-D60F-492E-9A44-7E23DAB5E6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48244-4A31-42C2-8832-44E3A5D58B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06E71-2598-4BDF-8526-F1D58D2CA7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D7B01-78DF-4008-B05F-6C6B404BD5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45DFE-9B9F-4E94-921A-B73EFFB863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FB2D8-02F6-4A18-A83E-6CABAF2D87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D01AD-4FDB-4F76-99F4-B62DFDE7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18A33-185B-49BB-A2DE-08B562B5B9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83C07-FD90-4018-BD66-C93EEE9F70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8BDBE-4715-4A7E-921A-E6F2CF57AB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FBD3A-7930-4C65-9126-43E79954DC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A2792-F1F9-401A-AED2-48EFB2EBBA5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CB32-9A3C-491A-A338-D6605AC1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0631-93CB-45E5-BD00-744676E7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8171-DB5B-49AB-95D0-D5437B68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EAE6-7A0C-43C6-BBA5-BCE4E46B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422F-846F-4A1D-8371-D59804D2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94401-5984-4B9B-9846-F3A9D83C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1C86-0F7A-472E-95E1-6D715B0E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A771-89E2-4664-AF05-11905138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2D15-D811-49E6-BFB5-E286ECDC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2FA5-6331-4380-B016-1B46C275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7576-E9A3-4077-BA16-712FC905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F8AB-FD8B-4314-973A-1596EA4C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C46E-C379-40E2-A781-B4C82EC1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130830-5890-4C9A-BC51-6F461C5C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4F274D-08B1-45BF-A13C-F093AC73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9B164E-6919-48CD-AC9D-55344F93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699DC-1366-4214-BD60-871AFA5E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CFC1CA-BF8E-4A60-91B0-1C544FC1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E4F458-0856-4EB9-BDC3-30B0D2B3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829463-0470-4296-847D-5FD834C9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2661D8-CC9C-4658-8EC9-AA1F93E2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7ADBD1-8CB9-4929-9C05-AEEE5558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3DAFF0-4856-4102-A1D4-1D47DBC4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E97516-BEF3-4306-8C01-1444ABA3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8F7DAE-DB6B-4042-939D-CC4BFABF4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77745C-D87D-45AB-BD69-36F3F849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ECCDD-F09A-4D5E-B849-3A8B8DA3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8E6D6-0070-4552-8508-7616D99F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B565E-6A35-42E9-AC20-0ECCF5F9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4963B-25EA-40F7-9EBC-D4F3CFBF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47183-9F33-46BE-91CE-E6E7B639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C0959C-BCD7-4D54-A2E5-31104BB5DEC3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1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BAF45E-70D0-4387-B0BC-70F290B0A8C5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6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7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6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76439B-3F49-48C9-A186-6D3C3C039B7D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3"/>
          <a:stretch/>
        </p:blipFill>
        <p:spPr>
          <a:xfrm>
            <a:off x="10932120" y="4716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14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14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dt" idx="8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ftr" idx="9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0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7042E6-09A4-4078-997E-D0CA91506059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fa-IR" sz="4400" spc="-52" strike="noStrike">
                <a:solidFill>
                  <a:srgbClr val="1a2884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91" name="PlaceHolder 3"/>
          <p:cNvSpPr>
            <a:spLocks noGrp="1"/>
          </p:cNvSpPr>
          <p:nvPr>
            <p:ph type="ftr" idx="11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A7C9E-7765-430E-A557-D506160507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95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DBD0F-FF96-4905-AAFE-91EF251762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42960" y="1141920"/>
            <a:ext cx="1079532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اتومبيل‌ خود را در محلي‌ امن‌ و كاملاً بافاصله‌ نسبت‌ به‌ محل‌ حادثه‌ پارك‌ كني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چراغ‌هاي‌ خطر آن‌ را به‌ حالت‌ چشمك‌زن‌ قرار ده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به‌یک‌باره از خودرو پیاده و  وارد جاده نشوی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عرض خیابان ندو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شب‌، لباسي‌ بپوشيد يا چيزي‌ حمل‌ كنيد كه‌ روشن‌ يا منعكس‌كننده‌ نور باشد یا از چراغ‌قوه‌ استفاده‌ كن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D432-F7FA-4348-8D74-A069386941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914400" y="1525680"/>
            <a:ext cx="1073664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حداقل‌ به‌ فاصله‌ 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۴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متر از محل‌ حادثه‌ در هر دو طرف‌ آن‌، مثلث‌ يا چراغ‌ هشداردهنده‌ قرار ده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بلافاصله با مرکز فوریت پلیس و اورژانس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تماس بگیر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تماس با اورژانس تعداد مصدومان را اعلام کن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به‌سرعت‌ تمام‌ مصدومان‌ را ارزيابي‌ كني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اگر بيش‌ از يك‌ مصدوم‌ وجود دارد، ابتدا به‌ آن‌هایی‌ كه‌ ممكن‌ است‌ آسيب‌هاي‌ تهديدكننده‌ حيات‌ (مثل‌ سوختگي‌ يا زخم‌ شديد) داشته‌ باشند، رسيدگي‌ كن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605880" y="2600280"/>
            <a:ext cx="3236400" cy="20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8BFB-BA88-41DC-A2A8-688889E732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493200" y="1973880"/>
            <a:ext cx="1097244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مصدوم‌ را حركت‌ ندهيد مگر وقتی‌که‌ قطعاً ضرورت‌ داشته‌ باش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صورت‌ امكان‌، مصدومان‌ را در همان‌ وضعيتي‌ كه‌ با آن‌ها مواجه‌ شديد، درمان‌ كن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تنها درصورتی‌که‌ مصدومي‌ درخطر باشد يا به‌منظور ارائه‌ درمان‌ نجات‌بخش‌، مي‌توانيد وي‌ را جابه‌جا كني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2FBE-B953-422F-915E-6EA0A09E8C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932040" y="1696680"/>
            <a:ext cx="107010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2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Nazanin"/>
              </a:rPr>
              <a:t>در مورد هر مصدومي‌ كه‌ در حوادث‌ رانندگي‌ آسیب‌دیده‌ است‌، هميشه‌ فرض‌ كنيد كه‌ آسيب‌ گردن‌ (نخاع‌) وجود دارد و سر مصدوم‌ را تا رسيدن‌ نيروهاي‌ كمكي‌، با دست‌ نگه‌داری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Nazanin"/>
              </a:rPr>
              <a:t>محل‌ را به‌طور كامل‌ جستجو كنيد تا از مصدوماني‌ كه‌ به‌ مناطق‌ دورتر پرتاب‌شده‌اند يا از آن‌هایی‌ كه‌ به‌ خاطر منگي‌، بي‌هدف‌ حركت‌ كرده‌ و از محل‌ دور شده‌اند، غفلت‌ نكرده‌ باشي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1DFC-DDD7-4DA2-A346-3AD6628A4C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ftr" idx="12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fa-IR" sz="1400" spc="-1" strike="noStrike" cap="all">
                <a:solidFill>
                  <a:srgbClr val="ffffff"/>
                </a:solidFill>
                <a:latin typeface="Calibri"/>
                <a:cs typeface="B Nazani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fa-IR" sz="1400" spc="-1" strike="noStrike" cap="all">
                <a:solidFill>
                  <a:srgbClr val="ffffff"/>
                </a:solidFill>
                <a:latin typeface="Calibri"/>
                <a:cs typeface="B Nazanin"/>
              </a:rPr>
              <a:t>کارگاه آمادگی در برابر زلزله ( فرد – خانواده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SG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D5EBA2-E173-4BF7-BF03-4687D781B8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pic>
        <p:nvPicPr>
          <p:cNvPr id="210" name="Content Placeholder 7" descr=""/>
          <p:cNvPicPr/>
          <p:nvPr/>
        </p:nvPicPr>
        <p:blipFill>
          <a:blip r:embed="rId2"/>
          <a:stretch/>
        </p:blipFill>
        <p:spPr>
          <a:xfrm>
            <a:off x="2978640" y="1772280"/>
            <a:ext cx="6473520" cy="43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55A30-1295-49E3-A24B-7EC00BE553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656</TotalTime>
  <Application>LibreOffice/7.4.7.2$Linux_X86_64 LibreOffice_project/40$Build-2</Application>
  <AppVersion>15.0000</AppVersion>
  <Words>46</Words>
  <Paragraphs>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4:16Z</dcterms:modified>
  <cp:revision>1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8</vt:r8>
  </property>
</Properties>
</file>