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B06F2-A2C8-4B47-850B-6094D77B8F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60085-C1C2-4D20-A03B-8AD168D3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7894-0F19-4B51-A340-BFC3BE95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BE99D-0EFA-451E-82C6-B77F67E9BF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7341C-9125-418D-A0B4-E2FAFF2FF4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FC706-FBBD-4FFA-80F0-2A09EC6C77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368C0-7136-412C-A4D5-61AB9D9A1D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0F738-066B-4CAD-BDF3-9EC25BD4CD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42155-207D-472D-A222-99B6AF8434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33251-4B69-4CCA-9C48-C7814C05D6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6AEC4-BBC8-43AC-A3DB-626B240B9E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26EE4-39A0-49FD-919F-78511E9E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C1BBE-66A9-4CAD-9A27-5655D828AE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03996-6FBA-4E73-8534-9FA53D4F92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19B57-4E43-404E-A44D-9EEB0A19A5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0E414-4984-4438-B771-89A161A39F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7EDA2-9E83-4861-AF60-AAE16767FA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60BB-023B-4ED5-B923-7ABDA1AC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BAA8-65C9-4A65-AD97-0AE10BFB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526D-2BCC-4A55-875A-E0A86EA8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E762-04E1-44F5-9282-D8287C04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3785-0C74-4C4C-9440-B1CC1C07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7C1EE-96CA-4240-8D17-9C116338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C90C-F59D-4D86-8290-1F017175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BF12-3364-4B4E-880B-5EB489C9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4AE0-8AB5-4078-AD80-833BB42F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E091-4B67-498D-B18C-87F4DDF6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8F5C-D11F-43F3-ADE1-96C3E5AD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BA92-2F59-48C5-9664-769C0DF7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0972-E7B6-4B3D-BB0A-0BDAFE35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293DB-1825-4141-96AB-B6A2797F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E9F20-7A90-4062-8A3C-33967BE6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E8142-0E14-420F-968D-A7A66492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2D43-4597-4894-A8DD-C1D49E25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0FA7-ECA0-41C2-A98A-28E838B0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F84CB-A28E-4CA5-8922-9A0C43C1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975F8-3F7C-4AA1-9A38-4941386A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FE87B-1A45-4818-B859-60BB245D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1950F-F171-4A90-B56B-DCD39542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637F7-AE26-4049-87F3-E4E5943A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CE935-F8ED-4607-B6DF-C7D59B00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3491-DEE0-4EEE-9B9D-8E2874FE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C461D-9F73-4EB4-81FD-A7A19DE0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A49C-940C-4778-AD88-871EC36A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E2FE3-9244-43F6-9599-70F60C21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A3BCA-EEA8-444E-860B-ED59D70C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35B7-148F-4F38-B0C7-15462609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1126A-E0BC-49FB-A8C2-D39D7CE7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DE5AC5-2869-4E1F-A695-4E89A7D29095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9FDFAE-2929-46E7-A0B3-8C057BF3BEA5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41DC32-6021-42E0-80E3-66D76923516B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3"/>
          <a:stretch/>
        </p:blipFill>
        <p:spPr>
          <a:xfrm>
            <a:off x="10929960" y="0"/>
            <a:ext cx="1261800" cy="12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4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5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E0CF5B-8AB9-4E96-B2CB-4C5606EE4DC5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نحوه امدادخواهی در بلایا و حواد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EC44B-9E3C-4303-ADDD-87E1C9B9EE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22" name="Content Placeholder 10" descr=""/>
          <p:cNvPicPr/>
          <p:nvPr/>
        </p:nvPicPr>
        <p:blipFill>
          <a:blip r:embed="rId2"/>
          <a:stretch/>
        </p:blipFill>
        <p:spPr>
          <a:xfrm>
            <a:off x="3089880" y="1554120"/>
            <a:ext cx="645156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7B63E-91B0-43DB-A674-06CD7B482A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881CE-99F6-4B5E-AE7F-B02CC691A4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شماره تلفن های ضروری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99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SG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2"/>
          <a:srcRect l="0" t="20962" r="0" b="8516"/>
          <a:stretch/>
        </p:blipFill>
        <p:spPr>
          <a:xfrm>
            <a:off x="1809720" y="2589840"/>
            <a:ext cx="8572320" cy="202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A2187-4F73-4CC0-82B3-E05392BD50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73680" y="1553400"/>
            <a:ext cx="667800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یماری ها و حوادث اورژانسی به مواردی گفته می شوند که در صورت عدم ارائه به موقع اقدامات امدادی – درمانی، منجر به صدمات عضوی و جانی و نیز مشکلات روانی بیمار می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قط در موارد فوری و اورژانس می توانید با این شماره تلفن تماس بگیر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وجود خطر و صدمات عضوی و جانی و یا در خطر بودن سلامت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153360" y="1958400"/>
            <a:ext cx="4403520" cy="3447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10920960" y="4284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58361-3144-4042-818D-A586E36B84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61000"/>
          </a:bodyPr>
          <a:p>
            <a:pPr marL="7848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قل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درد و سنگینی یا فشار قفسه سینه همراه با تهوع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ستفراغ، عرق س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نگی نفس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حساس سوزش در ناحیه پشت جناغ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بیماریکه سابقه بیماری قلبی دارد در صورت داشتن هریک از علائم فوق با اورژانس 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ماس بگی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98000"/>
          </a:bodyPr>
          <a:p>
            <a:pPr marL="12600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ت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تنگی 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خس خس سینه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کبودی لبها و بستر ناخنها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27440" indent="-127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1BFA-50D9-4AFC-916B-91B8D583DC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823640" y="1271880"/>
            <a:ext cx="60955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تصادف با وسیله نقلی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قوط از بلن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وخت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مسمومیت های دارویی و خودکش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غرق شد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گزید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ضرب و جرح(ضربه به جمجمه و ستون فقرات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برق گرفت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ریزش آو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32DC3-4C22-4437-BB97-882313A6EA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35800" y="1553400"/>
            <a:ext cx="1131552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رایند امداد خواهی و امداد رسانی از تماس با شماره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شروع شده و در مرحله تحویل بیمار به اولین مرکز درمانی پایان می پذی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4300200" y="3287160"/>
            <a:ext cx="4030200" cy="287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5E986-CCEF-4E06-94CB-9AA100906D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2249640" y="1565280"/>
            <a:ext cx="7289280" cy="472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97A11-D35A-4A8F-AC0E-D8BDA231E3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3200" spc="-52" strike="noStrike">
                <a:solidFill>
                  <a:srgbClr val="b40000"/>
                </a:solidFill>
                <a:latin typeface="Calibri Light"/>
                <a:cs typeface="B Titr"/>
              </a:rPr>
              <a:t>در هنگام تماس با اورژانس 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 به چه مسائلی را باید رعایت کنیم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4760" y="1553400"/>
            <a:ext cx="116510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حفظ خونسر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پاسخگویی به سوالات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(در مورد سن، جنس و تعداد مصدومین ، سابقه ی بیماری، نحو ه ی بروز حادث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نشانی کامل و در صورت امکان نام یا شماره کوچه و خیابان 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اگر در مورد موقعیت مکانی خود مطمئن نیستید ، هراس به خود راه ندهید ،سعی کنید از افراد محلی واطرافیان موقیعت جغرافیایی محل را جویا شوید.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اطلاعات در خصوص خطرات موجود در محل حادثه مثل وجود مواد سمی ، آسیب سیمهای برق یا وضعیت آب و هوا (مه یا جاده یخ زد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بکار بستن توصیه های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تا رسیدن اکیپ امدا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شماره تلفن خودتان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42CC4-B0DA-4DF5-B600-C11399CC65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27</TotalTime>
  <Application>LibreOffice/7.4.7.2$Linux_X86_64 LibreOffice_project/40$Build-2</Application>
  <AppVersion>15.0000</AppVersion>
  <Words>381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14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0</vt:r8>
  </property>
</Properties>
</file>