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B2503-D845-410F-AAE5-069C51A90E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47BE5-AFB7-4C4B-ABEA-FB6268B68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BB07F-20D0-4E4E-B8EE-04B48B58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62E75-DDC1-4E88-A731-CE5FEDB6F4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BE46E9-05EE-4D78-9367-F0F63637E4A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5FF9D1-71E4-41AD-8C94-1E1A51F708B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AF6ADC-D7EA-4BE3-A6EE-5C148B81654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DEA5D7-C8C5-45AD-978B-4530E7139C5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32DD17-7AAA-4D21-81E9-922F730BB18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CFB723-6D4A-4AC9-AE2C-D793D9C34C8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6B9377-8E79-40CD-9FC6-EBF8898BA0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93FAD-B196-4E7A-A737-9CF1AE458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0C3194-C164-4D16-9802-7A3EDEC7965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378117-C9BF-4213-9345-F1CEB5E60E6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C2DD4A-6393-4763-86C2-9A6FC54AAFC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F1A091-FCA5-4BE0-825C-06074236C44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B7B8E3-B86F-4D67-91C1-4D29962A43C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E9F5B-9A53-4789-B070-D2BAAC083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07C09-9FC7-4219-8234-864780D5C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16ABB-777D-43A8-9F0D-ED6D55D2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C6162-E774-4472-B0B4-2A153E809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DA2BB-A331-4B4E-8605-DB51DBD46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DC1F5-F34C-4171-A8DE-0AF2BBB9F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6C93F-393E-42C2-8DDD-7FF8C12DA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4820D-7E45-4AF9-8C6A-9569F000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E4C94-B78C-40C0-849E-E01985A9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BF351-59B5-45EF-AE95-59B4ED88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94F9C-C16A-4F76-BCA1-C866429AF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4963C-2900-4B05-85F6-965C02847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592D2-01FC-483D-A9B1-77361A07F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1DC48-E492-4DB4-AA12-8B93D2994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EDAEE-DBCD-4BCC-B4DD-2BE9B1D51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1F4FB-FA04-498E-A13B-6EB12DE89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5215F-2BDE-41FD-8FDA-7783F035E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6200B-5096-41E0-86C6-09A466062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6B26D-FDB5-4DE3-88E6-E13BBA20B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91453-23FB-4F72-BED1-75B032FFA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9BD43-69E3-440B-B5F0-8F35FF64A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CA752-B937-47A2-BE6D-B298B5C9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3AB9E-A912-45CF-AF3A-F6104980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734E8-1A18-48BF-BCA9-6B773CEFD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1F663-1F67-4C3D-97C1-43187CAAB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2FC3A-632D-4B1C-958C-D1EFD912B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A58E1-CF8D-41E3-B65D-F65FC6D37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B5987-4B59-44E8-BE20-3B1FA7017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39C0E-239E-4E0E-BEDF-4D6145CBB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4B673-3834-444F-9CE1-2FB1DDB55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D37AF-F73D-4CA9-BE84-F8EF34643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 hidden="1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 hidden="1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3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4" name="TextBox 3" hidden="1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3240" y="6400800"/>
            <a:ext cx="1218852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0" y="6334200"/>
            <a:ext cx="12188520" cy="6372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97280" y="758880"/>
            <a:ext cx="10058040" cy="356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rtl="1">
              <a:lnSpc>
                <a:spcPct val="85000"/>
              </a:lnSpc>
              <a:buNone/>
            </a:pPr>
            <a:r>
              <a:rPr b="1" lang="en-US" sz="8000" spc="-52" strike="noStrike">
                <a:solidFill>
                  <a:srgbClr val="262626"/>
                </a:solidFill>
                <a:latin typeface="Calibri Light"/>
              </a:rPr>
              <a:t>Click to edit Master title styl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097280" y="6459840"/>
            <a:ext cx="24717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77040" y="645984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511713C-7A6C-4C36-BD4C-210F4B1521BD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" name="Straight Connector 8"/>
          <p:cNvCxnSpPr/>
          <p:nvPr/>
        </p:nvCxnSpPr>
        <p:spPr>
          <a:xfrm>
            <a:off x="1207440" y="4343400"/>
            <a:ext cx="987588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sp>
        <p:nvSpPr>
          <p:cNvPr id="11" name="PlaceHolder 4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lnSpc>
                <a:spcPct val="15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864000" indent="-324000" algn="r" rtl="1">
              <a:lnSpc>
                <a:spcPct val="15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1296000" indent="-288000" algn="r" rtl="1">
              <a:lnSpc>
                <a:spcPct val="15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1728000" indent="-216000" algn="r" rtl="1">
              <a:lnSpc>
                <a:spcPct val="15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2160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2592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3024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51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52" name="TextBox 3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Click to edit Master title sty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91440" indent="-9144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Edit Master text styles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412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56700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74988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93276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if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3"/>
          </p:nvPr>
        </p:nvSpPr>
        <p:spPr>
          <a:xfrm>
            <a:off x="50760" y="6446880"/>
            <a:ext cx="48225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US" sz="1600" spc="-1" strike="noStrike" cap="all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600" spc="-1" strike="noStrike" cap="all">
                <a:solidFill>
                  <a:srgbClr val="ffffff"/>
                </a:solidFill>
                <a:latin typeface="Calibri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4"/>
          </p:nvPr>
        </p:nvSpPr>
        <p:spPr>
          <a:xfrm>
            <a:off x="11649240" y="642672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52E5601-0E25-4C57-A843-8AA8D5706557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96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97" name="TextBox 3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7280" y="286560"/>
            <a:ext cx="10058040" cy="145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Click to edit Master title sty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097280" y="1845720"/>
            <a:ext cx="4937400" cy="402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91440" indent="-9144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Edit Master text styles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412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56700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74988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93276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if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body"/>
          </p:nvPr>
        </p:nvSpPr>
        <p:spPr>
          <a:xfrm>
            <a:off x="6217920" y="1845720"/>
            <a:ext cx="4937400" cy="402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91440" indent="-9144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Edit Master text styles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412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56700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74988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93276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if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dt" idx="5"/>
          </p:nvPr>
        </p:nvSpPr>
        <p:spPr>
          <a:xfrm>
            <a:off x="1097280" y="6459840"/>
            <a:ext cx="24717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6"/>
          </p:nvPr>
        </p:nvSpPr>
        <p:spPr>
          <a:xfrm>
            <a:off x="77040" y="645984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4EF2A55-2A90-4C10-82E3-3F0A9A57D500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ftr" idx="7"/>
          </p:nvPr>
        </p:nvSpPr>
        <p:spPr>
          <a:xfrm>
            <a:off x="3686040" y="6589440"/>
            <a:ext cx="482256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 cap="all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400" spc="-1" strike="noStrike" cap="all">
                <a:solidFill>
                  <a:srgbClr val="ffffff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1" descr=""/>
          <p:cNvPicPr/>
          <p:nvPr/>
        </p:nvPicPr>
        <p:blipFill>
          <a:blip r:embed="rId3"/>
          <a:stretch/>
        </p:blipFill>
        <p:spPr>
          <a:xfrm>
            <a:off x="10929960" y="0"/>
            <a:ext cx="1261800" cy="1261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6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144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145" name="TextBox 3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Click to edit Master title sty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8"/>
          </p:nvPr>
        </p:nvSpPr>
        <p:spPr>
          <a:xfrm>
            <a:off x="1097280" y="6459840"/>
            <a:ext cx="24717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Num" idx="9"/>
          </p:nvPr>
        </p:nvSpPr>
        <p:spPr>
          <a:xfrm>
            <a:off x="77040" y="645984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3DD1410-8F48-48CF-A6C4-0F1FD7BCA089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0"/>
          </p:nvPr>
        </p:nvSpPr>
        <p:spPr>
          <a:xfrm>
            <a:off x="3686040" y="6589440"/>
            <a:ext cx="482256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 cap="all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400" spc="-1" strike="noStrike" cap="all">
                <a:solidFill>
                  <a:srgbClr val="ffffff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3"/>
          <a:stretch/>
        </p:blipFill>
        <p:spPr>
          <a:xfrm>
            <a:off x="10932120" y="4716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151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lnSpc>
                <a:spcPct val="15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864000" indent="-324000" algn="r" rtl="1">
              <a:lnSpc>
                <a:spcPct val="15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1296000" indent="-288000" algn="r" rtl="1">
              <a:lnSpc>
                <a:spcPct val="15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1728000" indent="-216000" algn="r" rtl="1">
              <a:lnSpc>
                <a:spcPct val="15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2160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2592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3024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71760" y="2165040"/>
            <a:ext cx="9143640" cy="202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130000"/>
              </a:lnSpc>
              <a:buNone/>
            </a:pPr>
            <a:r>
              <a:rPr b="1" lang="fa-IR" sz="4400" spc="-52" strike="noStrike">
                <a:solidFill>
                  <a:srgbClr val="1a2884"/>
                </a:solidFill>
                <a:latin typeface="Calibri Light"/>
                <a:cs typeface="B Titr"/>
              </a:rPr>
              <a:t>نحوه امدادخواهی در بلایا و حوادث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523880" y="4592520"/>
            <a:ext cx="9239400" cy="183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buNone/>
            </a:pPr>
            <a:endParaRPr b="1" lang="en-US" sz="2400" spc="199" strike="noStrike" cap="all">
              <a:solidFill>
                <a:srgbClr val="335b74"/>
              </a:solidFill>
              <a:latin typeface="Calibri Light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9331920" y="76320"/>
            <a:ext cx="2863440" cy="1259640"/>
          </a:xfrm>
          <a:prstGeom prst="rect">
            <a:avLst/>
          </a:prstGeom>
          <a:ln w="9525">
            <a:noFill/>
          </a:ln>
        </p:spPr>
      </p:pic>
      <p:sp>
        <p:nvSpPr>
          <p:cNvPr id="191" name="PlaceHolder 3"/>
          <p:cNvSpPr>
            <a:spLocks noGrp="1"/>
          </p:cNvSpPr>
          <p:nvPr>
            <p:ph type="ftr" idx="11"/>
          </p:nvPr>
        </p:nvSpPr>
        <p:spPr>
          <a:xfrm>
            <a:off x="3515040" y="3622680"/>
            <a:ext cx="482256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SG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SG" sz="1400" spc="-1" strike="noStrike">
                <a:solidFill>
                  <a:srgbClr val="ffffff"/>
                </a:solidFill>
                <a:latin typeface="Calibri"/>
              </a:rPr>
              <a:t>Dehghani.Am64@gmail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43C2A-DB4B-469D-8C2E-861F56CAFF6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با تشکر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11031480" y="123840"/>
            <a:ext cx="1149840" cy="1149840"/>
          </a:xfrm>
          <a:prstGeom prst="rect">
            <a:avLst/>
          </a:prstGeom>
          <a:ln w="9525">
            <a:noFill/>
          </a:ln>
        </p:spPr>
      </p:pic>
      <p:pic>
        <p:nvPicPr>
          <p:cNvPr id="222" name="Content Placeholder 10" descr=""/>
          <p:cNvPicPr/>
          <p:nvPr/>
        </p:nvPicPr>
        <p:blipFill>
          <a:blip r:embed="rId2"/>
          <a:stretch/>
        </p:blipFill>
        <p:spPr>
          <a:xfrm>
            <a:off x="3089880" y="1554120"/>
            <a:ext cx="6451560" cy="431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3754AE-AC0F-4DC7-9D8E-7DAC3986C19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1" lang="en-US" sz="4800" spc="-52" strike="noStrike">
              <a:solidFill>
                <a:srgbClr val="b4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95" name="Picture 2" descr="Image result for بسم الله الرحمن الرحيم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3"/>
          <p:cNvSpPr/>
          <p:nvPr/>
        </p:nvSpPr>
        <p:spPr>
          <a:xfrm>
            <a:off x="0" y="6267240"/>
            <a:ext cx="1386720" cy="59040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Z.Ghomi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42D1AF-CC7B-43D0-90D1-2EA502ADF0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5400" spc="-52" strike="noStrike">
                <a:solidFill>
                  <a:srgbClr val="c00000"/>
                </a:solidFill>
                <a:latin typeface="Calibri Light"/>
                <a:cs typeface="B Titr"/>
              </a:rPr>
              <a:t>شماره تلفن های ضروری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199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SG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10" descr=""/>
          <p:cNvPicPr/>
          <p:nvPr/>
        </p:nvPicPr>
        <p:blipFill>
          <a:blip r:embed="rId2"/>
          <a:srcRect l="0" t="20962" r="0" b="8516"/>
          <a:stretch/>
        </p:blipFill>
        <p:spPr>
          <a:xfrm>
            <a:off x="1809720" y="2589840"/>
            <a:ext cx="8572320" cy="202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2DAEC6-69EE-4903-BDB8-4965CB2320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چه زمانی با اورژانس </a:t>
            </a: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115</a:t>
            </a: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 تماس بگیریم؟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873680" y="1553400"/>
            <a:ext cx="6678000" cy="4746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84000"/>
          </a:bodyPr>
          <a:p>
            <a:pPr marL="496800" indent="-414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بیماری ها و حوادث اورژانسی به مواردی گفته می شوند که در صورت عدم ارائه به موقع اقدامات امدادی – درمانی، منجر به صدمات عضوی و جانی و نیز مشکلات روانی بیمار می شو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496800" indent="-414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فقط در موارد فوری و اورژانس می توانید با این شماره تلفن تماس بگیرید.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496800" indent="-414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وجود خطر و صدمات عضوی و جانی و یا در خطر بودن سلامتی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203" name="Picture 5" descr=""/>
          <p:cNvPicPr/>
          <p:nvPr/>
        </p:nvPicPr>
        <p:blipFill>
          <a:blip r:embed="rId1"/>
          <a:stretch/>
        </p:blipFill>
        <p:spPr>
          <a:xfrm>
            <a:off x="153360" y="1958400"/>
            <a:ext cx="4403520" cy="34477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"/>
          <p:cNvPicPr/>
          <p:nvPr/>
        </p:nvPicPr>
        <p:blipFill>
          <a:blip r:embed="rId2"/>
          <a:stretch/>
        </p:blipFill>
        <p:spPr>
          <a:xfrm>
            <a:off x="10920960" y="42840"/>
            <a:ext cx="1261800" cy="126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705088-49B4-43DD-9DAB-10E837189A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97280" y="286560"/>
            <a:ext cx="10058040" cy="145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چه زمانی با اورژانس </a:t>
            </a: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115</a:t>
            </a: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 تماس بگیریم؟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97280" y="1845720"/>
            <a:ext cx="4937400" cy="4023000"/>
          </a:xfrm>
          <a:prstGeom prst="rect">
            <a:avLst/>
          </a:prstGeom>
          <a:solidFill>
            <a:schemeClr val="lt1"/>
          </a:solidFill>
          <a:ln w="15840">
            <a:solidFill>
              <a:srgbClr val="62a39f"/>
            </a:solidFill>
            <a:round/>
          </a:ln>
        </p:spPr>
        <p:txBody>
          <a:bodyPr lIns="0" rIns="0" anchor="t">
            <a:normAutofit fontScale="61000"/>
          </a:bodyPr>
          <a:p>
            <a:pPr marL="78480" indent="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fa-IR" sz="2800" spc="-1" strike="noStrike">
                <a:solidFill>
                  <a:schemeClr val="dk1"/>
                </a:solidFill>
                <a:latin typeface="Calibri"/>
                <a:cs typeface="B Nazanin"/>
              </a:rPr>
              <a:t>اورژانس های قلب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476640" indent="-398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chemeClr val="dk1"/>
                </a:solidFill>
                <a:latin typeface="Calibri"/>
                <a:cs typeface="B Nazanin"/>
              </a:rPr>
              <a:t>درد و سنگینی یا فشار قفسه سینه همراه با تهوع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476640" indent="-398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chemeClr val="dk1"/>
                </a:solidFill>
                <a:latin typeface="Calibri"/>
              </a:rPr>
              <a:t> استفراغ، عرق سرد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476640" indent="-398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chemeClr val="dk1"/>
                </a:solidFill>
                <a:latin typeface="Calibri"/>
              </a:rPr>
              <a:t> تنگی نفس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476640" indent="-398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chemeClr val="dk1"/>
                </a:solidFill>
                <a:latin typeface="Calibri"/>
              </a:rPr>
              <a:t> احساس سوزش در ناحیه پشت جناغ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476640" indent="-398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chemeClr val="dk1"/>
                </a:solidFill>
                <a:latin typeface="Calibri"/>
              </a:rPr>
              <a:t> بیماریکه سابقه بیماری قلبی دارد در صورت داشتن هریک از علائم فوق با اورژانس </a:t>
            </a:r>
            <a:r>
              <a:rPr b="0" lang="en-US" sz="2800" spc="-1" strike="noStrike">
                <a:solidFill>
                  <a:schemeClr val="dk1"/>
                </a:solidFill>
                <a:latin typeface="Calibri"/>
              </a:rPr>
              <a:t>115</a:t>
            </a:r>
            <a:r>
              <a:rPr b="0" lang="en-US" sz="2800" spc="-1" strike="noStrike">
                <a:solidFill>
                  <a:schemeClr val="dk1"/>
                </a:solidFill>
                <a:latin typeface="Calibri"/>
              </a:rPr>
              <a:t> تماس بگیر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217920" y="1845720"/>
            <a:ext cx="4937400" cy="4023000"/>
          </a:xfrm>
          <a:prstGeom prst="rect">
            <a:avLst/>
          </a:prstGeom>
          <a:solidFill>
            <a:schemeClr val="lt1"/>
          </a:solidFill>
          <a:ln w="15840">
            <a:solidFill>
              <a:srgbClr val="62a39f"/>
            </a:solidFill>
            <a:round/>
          </a:ln>
        </p:spPr>
        <p:txBody>
          <a:bodyPr lIns="0" rIns="0" anchor="t">
            <a:normAutofit fontScale="98000"/>
          </a:bodyPr>
          <a:p>
            <a:pPr marL="126000" indent="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fa-IR" sz="2900" spc="-1" strike="noStrike">
                <a:solidFill>
                  <a:schemeClr val="dk1"/>
                </a:solidFill>
                <a:latin typeface="Calibri"/>
                <a:cs typeface="B Nazanin"/>
              </a:rPr>
              <a:t>اورژانس های تنفس</a:t>
            </a:r>
            <a:endParaRPr b="1" lang="en-US" sz="2900" spc="-1" strike="noStrike">
              <a:solidFill>
                <a:srgbClr val="404040"/>
              </a:solidFill>
              <a:latin typeface="Calibri"/>
            </a:endParaRPr>
          </a:p>
          <a:p>
            <a:pPr marL="766080" indent="-639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fa-IR" sz="2900" spc="-1" strike="noStrike">
                <a:solidFill>
                  <a:schemeClr val="dk1"/>
                </a:solidFill>
                <a:latin typeface="Calibri"/>
                <a:cs typeface="B Nazanin"/>
              </a:rPr>
              <a:t>تنگی نفس</a:t>
            </a:r>
            <a:endParaRPr b="1" lang="en-US" sz="2900" spc="-1" strike="noStrike">
              <a:solidFill>
                <a:srgbClr val="404040"/>
              </a:solidFill>
              <a:latin typeface="Calibri"/>
            </a:endParaRPr>
          </a:p>
          <a:p>
            <a:pPr marL="766080" indent="-639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900" spc="-1" strike="noStrike">
                <a:solidFill>
                  <a:schemeClr val="dk1"/>
                </a:solidFill>
                <a:latin typeface="Calibri"/>
              </a:rPr>
              <a:t> خس خس سینه</a:t>
            </a:r>
            <a:endParaRPr b="1" lang="en-US" sz="2900" spc="-1" strike="noStrike">
              <a:solidFill>
                <a:srgbClr val="404040"/>
              </a:solidFill>
              <a:latin typeface="Calibri"/>
            </a:endParaRPr>
          </a:p>
          <a:p>
            <a:pPr marL="766080" indent="-639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900" spc="-1" strike="noStrike">
                <a:solidFill>
                  <a:schemeClr val="dk1"/>
                </a:solidFill>
                <a:latin typeface="Calibri"/>
              </a:rPr>
              <a:t> کبودی لبها و بستر ناخنها</a:t>
            </a:r>
            <a:endParaRPr b="1" lang="en-US" sz="2900" spc="-1" strike="noStrike">
              <a:solidFill>
                <a:srgbClr val="404040"/>
              </a:solidFill>
              <a:latin typeface="Calibri"/>
            </a:endParaRPr>
          </a:p>
          <a:p>
            <a:pPr marL="127440" indent="-12744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0"/>
              </a:tabLst>
            </a:pPr>
            <a:r>
              <a:rPr b="1" lang="en-US" sz="2800" spc="-1" strike="noStrike">
                <a:solidFill>
                  <a:schemeClr val="dk1"/>
                </a:solidFill>
                <a:latin typeface="Calibri"/>
              </a:rPr>
              <a:t>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BD012-3786-43DA-BF75-170BD7CD5D3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چه زمانی با اورژانس </a:t>
            </a: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115</a:t>
            </a: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 تماس بگیریم؟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4823640" y="1271880"/>
            <a:ext cx="609552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تصادف با وسیله نقلی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سقوط از بلند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سوختگی 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مسمومیت های دارویی و خودکش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غرق شدگ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گزیدگی 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ضرب و جرح(ضربه به جمجمه و ستون فقرات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برق گرفتگ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ریزش آوا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F63AA-6D53-46CD-A10C-D2EAC9E7D7F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فرآیند امداد خواهی و امداد رسان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35800" y="1553400"/>
            <a:ext cx="11315520" cy="4746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فرایند امداد خواهی و امداد رسانی از تماس با شماره 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115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 شروع شده و در مرحله تحویل بیمار به اولین مرکز درمانی پایان می پذیرد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212" name="Picture 6" descr=""/>
          <p:cNvPicPr/>
          <p:nvPr/>
        </p:nvPicPr>
        <p:blipFill>
          <a:blip r:embed="rId1"/>
          <a:stretch/>
        </p:blipFill>
        <p:spPr>
          <a:xfrm>
            <a:off x="4300200" y="3287160"/>
            <a:ext cx="4030200" cy="2879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" descr=""/>
          <p:cNvPicPr/>
          <p:nvPr/>
        </p:nvPicPr>
        <p:blipFill>
          <a:blip r:embed="rId2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243B0C-9DF7-478F-86A3-A20DB283A8B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فرآیند امداد خواهی و امداد رسان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Content Placeholder 3" descr=""/>
          <p:cNvPicPr/>
          <p:nvPr/>
        </p:nvPicPr>
        <p:blipFill>
          <a:blip r:embed="rId1"/>
          <a:stretch/>
        </p:blipFill>
        <p:spPr>
          <a:xfrm>
            <a:off x="2249640" y="1565280"/>
            <a:ext cx="7289280" cy="47239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"/>
          <p:cNvPicPr/>
          <p:nvPr/>
        </p:nvPicPr>
        <p:blipFill>
          <a:blip r:embed="rId2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785B54-EB4D-4B73-970F-80E2D32A90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3200" spc="-52" strike="noStrike">
                <a:solidFill>
                  <a:srgbClr val="b40000"/>
                </a:solidFill>
                <a:latin typeface="Calibri Light"/>
                <a:cs typeface="B Titr"/>
              </a:rPr>
              <a:t>در هنگام تماس با اورژانس </a:t>
            </a:r>
            <a:r>
              <a:rPr b="1" lang="en-US" sz="3200" spc="-52" strike="noStrike">
                <a:solidFill>
                  <a:srgbClr val="b40000"/>
                </a:solidFill>
                <a:latin typeface="Calibri Light"/>
              </a:rPr>
              <a:t>115</a:t>
            </a:r>
            <a:r>
              <a:rPr b="1" lang="en-US" sz="3200" spc="-52" strike="noStrike">
                <a:solidFill>
                  <a:srgbClr val="b40000"/>
                </a:solidFill>
                <a:latin typeface="Calibri Light"/>
              </a:rPr>
              <a:t> به چه مسائلی را باید رعایت کنیم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94760" y="1553400"/>
            <a:ext cx="1165104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8175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000" spc="-1" strike="noStrike">
                <a:solidFill>
                  <a:srgbClr val="404040"/>
                </a:solidFill>
                <a:latin typeface="Calibri"/>
                <a:cs typeface="B Nazanin"/>
              </a:rPr>
              <a:t>حفظ خونسردی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175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پاسخگویی به سوالات پزشکان و پرستاران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115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(در مورد سن، جنس و تعداد مصدومین ، سابقه ی بیماری، نحو ه ی بروز حادثه)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175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000" spc="-1" strike="noStrike">
                <a:solidFill>
                  <a:srgbClr val="404040"/>
                </a:solidFill>
                <a:latin typeface="Calibri"/>
                <a:cs typeface="B Nazanin"/>
              </a:rPr>
              <a:t>دادن نشانی کامل و در صورت امکان نام یا شماره کوچه و خیابان 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175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000" spc="-1" strike="noStrike">
                <a:solidFill>
                  <a:srgbClr val="404040"/>
                </a:solidFill>
                <a:latin typeface="Calibri"/>
                <a:cs typeface="B Nazanin"/>
              </a:rPr>
              <a:t>اگر در مورد موقعیت مکانی خود مطمئن نیستید ، هراس به خود راه ندهید ،سعی کنید از افراد محلی واطرافیان موقیعت جغرافیایی محل را جویا شوید.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175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000" spc="-1" strike="noStrike">
                <a:solidFill>
                  <a:srgbClr val="404040"/>
                </a:solidFill>
                <a:latin typeface="Calibri"/>
                <a:cs typeface="B Nazanin"/>
              </a:rPr>
              <a:t>دادن اطلاعات در خصوص خطرات موجود در محل حادثه مثل وجود مواد سمی ، آسیب سیمهای برق یا وضعیت آب و هوا (مه یا جاده یخ زده)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175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000" spc="-1" strike="noStrike">
                <a:solidFill>
                  <a:srgbClr val="404040"/>
                </a:solidFill>
                <a:latin typeface="Calibri"/>
                <a:cs typeface="B Nazanin"/>
              </a:rPr>
              <a:t>بکار بستن توصیه های پزشکان و پرستاران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115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تا رسیدن اکیپ امدادی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175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000" spc="-1" strike="noStrike">
                <a:solidFill>
                  <a:srgbClr val="404040"/>
                </a:solidFill>
                <a:latin typeface="Calibri"/>
                <a:cs typeface="B Nazanin"/>
              </a:rPr>
              <a:t>شماره تلفن خودتان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60360"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6369AE-03FF-418E-AE80-0B99CF045B2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Retrospect</Template>
  <TotalTime>10627</TotalTime>
  <Application>LibreOffice/7.4.7.2$Linux_X86_64 LibreOffice_project/40$Build-2</Application>
  <AppVersion>15.0000</AppVersion>
  <Words>381</Words>
  <Paragraphs>5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03T12:17:57Z</dcterms:created>
  <dc:creator>Z Gh</dc:creator>
  <dc:description/>
  <dc:language>en-US</dc:language>
  <cp:lastModifiedBy>mahnaz khoshmanzar shahroudi</cp:lastModifiedBy>
  <dcterms:modified xsi:type="dcterms:W3CDTF">2022-01-29T07:55:14Z</dcterms:modified>
  <cp:revision>1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Widescreen</vt:lpwstr>
  </property>
  <property fmtid="{D5CDD505-2E9C-101B-9397-08002B2CF9AE}" pid="3" name="Slides">
    <vt:r8>10</vt:r8>
  </property>
</Properties>
</file>