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B53500A0-654A-4A43-B7A6-847F548D1C06}" type="doc">
      <dgm:prSet loTypeId="urn:microsoft.com/office/officeart/2005/8/layout/chevron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SG"/>
        </a:p>
      </dgm:t>
    </dgm:pt>
    <dgm:pt modelId="{54C31A48-4999-46D6-8F4E-82621459D554}">
      <dgm:prSet phldrT="[Text]"/>
      <dgm:spPr/>
      <dgm:t>
        <a:bodyPr/>
        <a:lstStyle/>
        <a:p>
          <a:pPr rtl="1"/>
          <a:r>
            <a:rPr lang="fa-IR" smtClean="0">
              <a:cs typeface="B Nazanin" panose="00000400000000000000" pitchFamily="2" charset="-78"/>
            </a:rPr>
            <a:t>گروه </a:t>
          </a:r>
          <a:r>
            <a:rPr lang="en-SG" smtClean="0">
              <a:cs typeface="B Nazanin" panose="00000400000000000000" pitchFamily="2" charset="-78"/>
            </a:rPr>
            <a:t>A</a:t>
          </a:r>
          <a:endParaRPr lang="en-SG" dirty="0">
            <a:cs typeface="B Nazanin" panose="00000400000000000000" pitchFamily="2" charset="-78"/>
          </a:endParaRPr>
        </a:p>
      </dgm:t>
    </dgm:pt>
    <dgm:pt modelId="{F620177C-0B66-4CBB-A621-5363D9629BE3}" type="parTrans" cxnId="{23BAA434-5FE2-44C0-8AB8-3DBC0608BAC8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54D790F1-99FE-4009-9493-A06966C3A36C}" type="sibTrans" cxnId="{23BAA434-5FE2-44C0-8AB8-3DBC0608BAC8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C4843F62-836F-4783-88BD-36404297F51E}">
      <dgm:prSet phldrT="[Text]"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چوب، پلاستیک، نایلون</a:t>
          </a:r>
          <a:endParaRPr lang="en-SG" dirty="0">
            <a:cs typeface="B Nazanin" panose="00000400000000000000" pitchFamily="2" charset="-78"/>
          </a:endParaRPr>
        </a:p>
      </dgm:t>
    </dgm:pt>
    <dgm:pt modelId="{53BAAA5F-D853-449B-A166-CCFFC00DB43A}" type="parTrans" cxnId="{672FB341-CCA8-4C03-99D5-897535F35648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D3EAB1B8-BED0-4E27-A547-10BF403D0400}" type="sibTrans" cxnId="{672FB341-CCA8-4C03-99D5-897535F35648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F0F81A63-7ED7-41DC-9892-A0E483D39A49}">
      <dgm:prSet phldrT="[Text]"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گروه </a:t>
          </a:r>
          <a:r>
            <a:rPr lang="en-SG" dirty="0" smtClean="0">
              <a:cs typeface="B Nazanin" panose="00000400000000000000" pitchFamily="2" charset="-78"/>
            </a:rPr>
            <a:t>B</a:t>
          </a:r>
          <a:endParaRPr lang="en-SG" dirty="0">
            <a:cs typeface="B Nazanin" panose="00000400000000000000" pitchFamily="2" charset="-78"/>
          </a:endParaRPr>
        </a:p>
      </dgm:t>
    </dgm:pt>
    <dgm:pt modelId="{8259298E-E5CC-42B4-B22D-F966278E69BB}" type="parTrans" cxnId="{0030FA97-1B4F-4CDD-8622-209D7C377CEB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0F24E2E8-0F40-4B4F-AE04-AA160E43D1A5}" type="sibTrans" cxnId="{0030FA97-1B4F-4CDD-8622-209D7C377CEB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76AECB33-C3FD-4FD0-A011-D23B3913B580}">
      <dgm:prSet phldrT="[Text]"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بنزین،گازوییل،الکل،گازهای قابل اشتعال</a:t>
          </a:r>
          <a:endParaRPr lang="en-SG" dirty="0">
            <a:cs typeface="B Nazanin" panose="00000400000000000000" pitchFamily="2" charset="-78"/>
          </a:endParaRPr>
        </a:p>
      </dgm:t>
    </dgm:pt>
    <dgm:pt modelId="{027C7094-4034-4947-91EC-BAE9EABC0081}" type="parTrans" cxnId="{2F07CF6B-251B-4962-91B9-5A89578DD480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DCC0DE10-079B-46A8-951F-5C6FF899E23B}" type="sibTrans" cxnId="{2F07CF6B-251B-4962-91B9-5A89578DD480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E87895A8-4BD3-47C7-84B4-8CD7F18E4374}">
      <dgm:prSet phldrT="[Text]"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گروه </a:t>
          </a:r>
          <a:r>
            <a:rPr lang="en-SG" dirty="0" smtClean="0">
              <a:cs typeface="B Nazanin" panose="00000400000000000000" pitchFamily="2" charset="-78"/>
            </a:rPr>
            <a:t>C</a:t>
          </a:r>
          <a:endParaRPr lang="en-SG" dirty="0">
            <a:cs typeface="B Nazanin" panose="00000400000000000000" pitchFamily="2" charset="-78"/>
          </a:endParaRPr>
        </a:p>
      </dgm:t>
    </dgm:pt>
    <dgm:pt modelId="{3CD4A2B8-907B-4AFA-9D19-B4CD470FCF51}" type="parTrans" cxnId="{34121961-7271-4D63-8917-2351824B400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8FDBB641-6392-4CA4-B9E1-88FE67F78F04}" type="sibTrans" cxnId="{34121961-7271-4D63-8917-2351824B400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6B3E51C4-651E-4815-B39D-E945C0358781}">
      <dgm:prSet phldrT="[Text]"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تجهیزات الکتریکی مانند تابلو برق ها یا کامپیوتر ها ، موتورها یا هر تجهیز قابل اشتعالی که با برق کار می کند</a:t>
          </a:r>
          <a:endParaRPr lang="en-SG" dirty="0">
            <a:cs typeface="B Nazanin" panose="00000400000000000000" pitchFamily="2" charset="-78"/>
          </a:endParaRPr>
        </a:p>
      </dgm:t>
    </dgm:pt>
    <dgm:pt modelId="{13E44969-E01D-440F-87BB-67399DE9D5CE}" type="parTrans" cxnId="{5F468F98-83E2-460E-92AE-72B6334EA2AD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9E183BF8-8BDF-46DA-A223-1AED3A16DDA4}" type="sibTrans" cxnId="{5F468F98-83E2-460E-92AE-72B6334EA2AD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C3450207-6E01-4CCE-B9F0-7C3D2DA50977}">
      <dgm:prSet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گروه </a:t>
          </a:r>
          <a:r>
            <a:rPr lang="en-SG" dirty="0" smtClean="0">
              <a:cs typeface="B Nazanin" panose="00000400000000000000" pitchFamily="2" charset="-78"/>
            </a:rPr>
            <a:t>D</a:t>
          </a:r>
          <a:endParaRPr lang="en-SG" dirty="0">
            <a:cs typeface="B Nazanin" panose="00000400000000000000" pitchFamily="2" charset="-78"/>
          </a:endParaRPr>
        </a:p>
      </dgm:t>
    </dgm:pt>
    <dgm:pt modelId="{9E9FFBD9-EF24-4713-ADC5-98C62BFC4608}" type="parTrans" cxnId="{53DE5E13-AB89-41DE-8358-C2F54BF36C8E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DA35D026-CD71-466F-A352-1FDC391AA176}" type="sibTrans" cxnId="{53DE5E13-AB89-41DE-8358-C2F54BF36C8E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E29D31DE-1733-415D-BCD7-52FE7D025DC9}">
      <dgm:prSet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گروه </a:t>
          </a:r>
          <a:r>
            <a:rPr lang="en-SG" dirty="0" smtClean="0">
              <a:cs typeface="B Nazanin" panose="00000400000000000000" pitchFamily="2" charset="-78"/>
            </a:rPr>
            <a:t>K</a:t>
          </a:r>
          <a:endParaRPr lang="en-SG" dirty="0">
            <a:cs typeface="B Nazanin" panose="00000400000000000000" pitchFamily="2" charset="-78"/>
          </a:endParaRPr>
        </a:p>
      </dgm:t>
    </dgm:pt>
    <dgm:pt modelId="{E7268877-3638-4DD0-9597-BAC883B56E01}" type="parTrans" cxnId="{346FC3C0-6CE1-4C6F-A356-3277C8FF29E6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2D311FB5-8DD3-4B0F-B1FA-73FD78E73E3B}" type="sibTrans" cxnId="{346FC3C0-6CE1-4C6F-A356-3277C8FF29E6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301C561D-0C27-48A4-AF3E-886128B9B7F3}">
      <dgm:prSet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فلزات قابل اشتعال :منیزیم،آلومینیم،پتاسیم و… </a:t>
          </a:r>
          <a:endParaRPr lang="en-SG" dirty="0">
            <a:cs typeface="B Nazanin" panose="00000400000000000000" pitchFamily="2" charset="-78"/>
          </a:endParaRPr>
        </a:p>
      </dgm:t>
    </dgm:pt>
    <dgm:pt modelId="{122EA30E-6729-4200-AC34-EF6782BE341F}" type="parTrans" cxnId="{624505DD-043B-4A96-996A-6FE1257CA3C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0E5017F8-A713-4F8D-8B6C-BD325C5AB12C}" type="sibTrans" cxnId="{624505DD-043B-4A96-996A-6FE1257CA3C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FEDF77E4-0839-4D4F-9144-6E7309CB7FA8}">
      <dgm:prSet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روغن ها و چربی های پخت در آشپزخانه</a:t>
          </a:r>
          <a:endParaRPr lang="en-SG" dirty="0">
            <a:cs typeface="B Nazanin" panose="00000400000000000000" pitchFamily="2" charset="-78"/>
          </a:endParaRPr>
        </a:p>
      </dgm:t>
    </dgm:pt>
    <dgm:pt modelId="{0646CA2E-EE29-47CE-9588-8C09A67898DD}" type="parTrans" cxnId="{9F69D7F8-4021-42E2-9D7C-E396F7B5E45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DCCBF545-3D64-4048-8DB5-225B5DBDE372}" type="sibTrans" cxnId="{9F69D7F8-4021-42E2-9D7C-E396F7B5E45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D75C14F7-7647-44FD-9F25-E081D508FD81}" type="pres">
      <dgm:prSet presAssocID="{B53500A0-654A-4A43-B7A6-847F548D1C06}" presName="linearFlow" presStyleCnt="0">
        <dgm:presLayoutVars>
          <dgm:dir val="rev"/>
          <dgm:animLvl val="lvl"/>
          <dgm:resizeHandles val="exact"/>
        </dgm:presLayoutVars>
      </dgm:prSet>
      <dgm:spPr/>
      <dgm:t>
        <a:bodyPr/>
        <a:lstStyle/>
        <a:p>
          <a:endParaRPr lang="en-SG"/>
        </a:p>
      </dgm:t>
    </dgm:pt>
    <dgm:pt modelId="{A9532DA5-F361-4237-B973-0DC49F55EE48}" type="pres">
      <dgm:prSet presAssocID="{54C31A48-4999-46D6-8F4E-82621459D554}" presName="composite" presStyleCnt="0"/>
      <dgm:spPr/>
    </dgm:pt>
    <dgm:pt modelId="{F8BE8BA7-7225-4F90-9180-0285823F773C}" type="pres">
      <dgm:prSet presAssocID="{54C31A48-4999-46D6-8F4E-82621459D554}" presName="parentText" presStyleLbl="alignNode1" presStyleIdx="0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5B9B9CE7-E432-4A65-B832-25990C93D580}" type="pres">
      <dgm:prSet presAssocID="{54C31A48-4999-46D6-8F4E-82621459D554}" presName="descendantText" presStyleLbl="alignAcc1" presStyleIdx="0" presStyleCnt="5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8349B932-21F9-4250-9FF9-C120550F844C}" type="pres">
      <dgm:prSet presAssocID="{54D790F1-99FE-4009-9493-A06966C3A36C}" presName="sp" presStyleCnt="0"/>
      <dgm:spPr/>
    </dgm:pt>
    <dgm:pt modelId="{87E699C6-2777-46DB-BD58-FB07AE3319DB}" type="pres">
      <dgm:prSet presAssocID="{F0F81A63-7ED7-41DC-9892-A0E483D39A49}" presName="composite" presStyleCnt="0"/>
      <dgm:spPr/>
    </dgm:pt>
    <dgm:pt modelId="{046BECE5-80FA-4660-ACA4-FF697CB6B749}" type="pres">
      <dgm:prSet presAssocID="{F0F81A63-7ED7-41DC-9892-A0E483D39A49}" presName="parentText" presStyleLbl="alignNode1" presStyleIdx="1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EE848C31-3495-47EC-A8F2-233B66CCBFF9}" type="pres">
      <dgm:prSet presAssocID="{F0F81A63-7ED7-41DC-9892-A0E483D39A49}" presName="descendantText" presStyleLbl="alignAcc1" presStyleIdx="1" presStyleCnt="5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0D093C16-08E1-4937-A53C-374B9240604D}" type="pres">
      <dgm:prSet presAssocID="{0F24E2E8-0F40-4B4F-AE04-AA160E43D1A5}" presName="sp" presStyleCnt="0"/>
      <dgm:spPr/>
    </dgm:pt>
    <dgm:pt modelId="{84DFCA00-CC7E-45B5-B5A2-02A917EE8361}" type="pres">
      <dgm:prSet presAssocID="{E87895A8-4BD3-47C7-84B4-8CD7F18E4374}" presName="composite" presStyleCnt="0"/>
      <dgm:spPr/>
    </dgm:pt>
    <dgm:pt modelId="{5A033AB5-3EF5-420B-8350-23D9C3EAB705}" type="pres">
      <dgm:prSet presAssocID="{E87895A8-4BD3-47C7-84B4-8CD7F18E4374}" presName="parentText" presStyleLbl="alignNode1" presStyleIdx="2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835A8605-A096-4AFB-B569-E4F0906E218E}" type="pres">
      <dgm:prSet presAssocID="{E87895A8-4BD3-47C7-84B4-8CD7F18E4374}" presName="descendantText" presStyleLbl="alignAcc1" presStyleIdx="2" presStyleCnt="5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94DECE45-AEF9-4B52-9211-377FB52CB8D0}" type="pres">
      <dgm:prSet presAssocID="{8FDBB641-6392-4CA4-B9E1-88FE67F78F04}" presName="sp" presStyleCnt="0"/>
      <dgm:spPr/>
    </dgm:pt>
    <dgm:pt modelId="{846AFF70-E9A6-4E4B-952B-34C7EF9632A2}" type="pres">
      <dgm:prSet presAssocID="{C3450207-6E01-4CCE-B9F0-7C3D2DA50977}" presName="composite" presStyleCnt="0"/>
      <dgm:spPr/>
    </dgm:pt>
    <dgm:pt modelId="{4D168BB2-DFBF-4F69-8214-3CA6D594B75A}" type="pres">
      <dgm:prSet presAssocID="{C3450207-6E01-4CCE-B9F0-7C3D2DA50977}" presName="parentText" presStyleLbl="alignNode1" presStyleIdx="3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0171C8BB-FA0A-495D-AA66-721B73390485}" type="pres">
      <dgm:prSet presAssocID="{C3450207-6E01-4CCE-B9F0-7C3D2DA50977}" presName="descendantText" presStyleLbl="alignAcc1" presStyleIdx="3" presStyleCnt="5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C9995DFD-9554-4EA4-A88E-A1C21B947D7D}" type="pres">
      <dgm:prSet presAssocID="{DA35D026-CD71-466F-A352-1FDC391AA176}" presName="sp" presStyleCnt="0"/>
      <dgm:spPr/>
    </dgm:pt>
    <dgm:pt modelId="{9236855D-E3F9-4A6B-B2E9-4720C2192D82}" type="pres">
      <dgm:prSet presAssocID="{E29D31DE-1733-415D-BCD7-52FE7D025DC9}" presName="composite" presStyleCnt="0"/>
      <dgm:spPr/>
    </dgm:pt>
    <dgm:pt modelId="{5745180A-9D7B-4C32-B4F8-4F9C3AF12B80}" type="pres">
      <dgm:prSet presAssocID="{E29D31DE-1733-415D-BCD7-52FE7D025DC9}" presName="parentText" presStyleLbl="alignNode1" presStyleIdx="4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ACF71AD0-FB08-482A-A9E1-A5B064333AF8}" type="pres">
      <dgm:prSet presAssocID="{E29D31DE-1733-415D-BCD7-52FE7D025DC9}" presName="descendantText" presStyleLbl="alignAcc1" presStyleIdx="4" presStyleCnt="5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</dgm:ptLst>
  <dgm:cxnLst>
    <dgm:cxn modelId="{346FC3C0-6CE1-4C6F-A356-3277C8FF29E6}" srcId="{B53500A0-654A-4A43-B7A6-847F548D1C06}" destId="{E29D31DE-1733-415D-BCD7-52FE7D025DC9}" srcOrd="4" destOrd="0" parTransId="{E7268877-3638-4DD0-9597-BAC883B56E01}" sibTransId="{2D311FB5-8DD3-4B0F-B1FA-73FD78E73E3B}"/>
    <dgm:cxn modelId="{34121961-7271-4D63-8917-2351824B4007}" srcId="{B53500A0-654A-4A43-B7A6-847F548D1C06}" destId="{E87895A8-4BD3-47C7-84B4-8CD7F18E4374}" srcOrd="2" destOrd="0" parTransId="{3CD4A2B8-907B-4AFA-9D19-B4CD470FCF51}" sibTransId="{8FDBB641-6392-4CA4-B9E1-88FE67F78F04}"/>
    <dgm:cxn modelId="{624505DD-043B-4A96-996A-6FE1257CA3C7}" srcId="{C3450207-6E01-4CCE-B9F0-7C3D2DA50977}" destId="{301C561D-0C27-48A4-AF3E-886128B9B7F3}" srcOrd="0" destOrd="0" parTransId="{122EA30E-6729-4200-AC34-EF6782BE341F}" sibTransId="{0E5017F8-A713-4F8D-8B6C-BD325C5AB12C}"/>
    <dgm:cxn modelId="{508618F5-C7F9-4861-9ACD-9C4965344D64}" type="presOf" srcId="{54C31A48-4999-46D6-8F4E-82621459D554}" destId="{F8BE8BA7-7225-4F90-9180-0285823F773C}" srcOrd="0" destOrd="0" presId="urn:microsoft.com/office/officeart/2005/8/layout/chevron2"/>
    <dgm:cxn modelId="{53DE5E13-AB89-41DE-8358-C2F54BF36C8E}" srcId="{B53500A0-654A-4A43-B7A6-847F548D1C06}" destId="{C3450207-6E01-4CCE-B9F0-7C3D2DA50977}" srcOrd="3" destOrd="0" parTransId="{9E9FFBD9-EF24-4713-ADC5-98C62BFC4608}" sibTransId="{DA35D026-CD71-466F-A352-1FDC391AA176}"/>
    <dgm:cxn modelId="{0030FA97-1B4F-4CDD-8622-209D7C377CEB}" srcId="{B53500A0-654A-4A43-B7A6-847F548D1C06}" destId="{F0F81A63-7ED7-41DC-9892-A0E483D39A49}" srcOrd="1" destOrd="0" parTransId="{8259298E-E5CC-42B4-B22D-F966278E69BB}" sibTransId="{0F24E2E8-0F40-4B4F-AE04-AA160E43D1A5}"/>
    <dgm:cxn modelId="{23BAA434-5FE2-44C0-8AB8-3DBC0608BAC8}" srcId="{B53500A0-654A-4A43-B7A6-847F548D1C06}" destId="{54C31A48-4999-46D6-8F4E-82621459D554}" srcOrd="0" destOrd="0" parTransId="{F620177C-0B66-4CBB-A621-5363D9629BE3}" sibTransId="{54D790F1-99FE-4009-9493-A06966C3A36C}"/>
    <dgm:cxn modelId="{517BA778-BB43-4C93-B994-D451ABC58A9E}" type="presOf" srcId="{F0F81A63-7ED7-41DC-9892-A0E483D39A49}" destId="{046BECE5-80FA-4660-ACA4-FF697CB6B749}" srcOrd="0" destOrd="0" presId="urn:microsoft.com/office/officeart/2005/8/layout/chevron2"/>
    <dgm:cxn modelId="{672FB341-CCA8-4C03-99D5-897535F35648}" srcId="{54C31A48-4999-46D6-8F4E-82621459D554}" destId="{C4843F62-836F-4783-88BD-36404297F51E}" srcOrd="0" destOrd="0" parTransId="{53BAAA5F-D853-449B-A166-CCFFC00DB43A}" sibTransId="{D3EAB1B8-BED0-4E27-A547-10BF403D0400}"/>
    <dgm:cxn modelId="{78A9F40F-4DA1-405F-A2E4-BE3BE2E0ECAD}" type="presOf" srcId="{FEDF77E4-0839-4D4F-9144-6E7309CB7FA8}" destId="{ACF71AD0-FB08-482A-A9E1-A5B064333AF8}" srcOrd="0" destOrd="0" presId="urn:microsoft.com/office/officeart/2005/8/layout/chevron2"/>
    <dgm:cxn modelId="{6A4FD7D8-F937-429E-9AC3-B842B15EB8F3}" type="presOf" srcId="{C4843F62-836F-4783-88BD-36404297F51E}" destId="{5B9B9CE7-E432-4A65-B832-25990C93D580}" srcOrd="0" destOrd="0" presId="urn:microsoft.com/office/officeart/2005/8/layout/chevron2"/>
    <dgm:cxn modelId="{3D9B571B-3099-494F-87B7-1336D2E4C88F}" type="presOf" srcId="{C3450207-6E01-4CCE-B9F0-7C3D2DA50977}" destId="{4D168BB2-DFBF-4F69-8214-3CA6D594B75A}" srcOrd="0" destOrd="0" presId="urn:microsoft.com/office/officeart/2005/8/layout/chevron2"/>
    <dgm:cxn modelId="{AA76C617-5167-49BA-9D39-3222E927FE4B}" type="presOf" srcId="{E87895A8-4BD3-47C7-84B4-8CD7F18E4374}" destId="{5A033AB5-3EF5-420B-8350-23D9C3EAB705}" srcOrd="0" destOrd="0" presId="urn:microsoft.com/office/officeart/2005/8/layout/chevron2"/>
    <dgm:cxn modelId="{7C41788D-871C-4D27-AADD-14333FD76A52}" type="presOf" srcId="{B53500A0-654A-4A43-B7A6-847F548D1C06}" destId="{D75C14F7-7647-44FD-9F25-E081D508FD81}" srcOrd="0" destOrd="0" presId="urn:microsoft.com/office/officeart/2005/8/layout/chevron2"/>
    <dgm:cxn modelId="{5F468F98-83E2-460E-92AE-72B6334EA2AD}" srcId="{E87895A8-4BD3-47C7-84B4-8CD7F18E4374}" destId="{6B3E51C4-651E-4815-B39D-E945C0358781}" srcOrd="0" destOrd="0" parTransId="{13E44969-E01D-440F-87BB-67399DE9D5CE}" sibTransId="{9E183BF8-8BDF-46DA-A223-1AED3A16DDA4}"/>
    <dgm:cxn modelId="{8AD61F54-7D8E-4413-AA71-CA42DF8CEDE5}" type="presOf" srcId="{76AECB33-C3FD-4FD0-A011-D23B3913B580}" destId="{EE848C31-3495-47EC-A8F2-233B66CCBFF9}" srcOrd="0" destOrd="0" presId="urn:microsoft.com/office/officeart/2005/8/layout/chevron2"/>
    <dgm:cxn modelId="{2F07CF6B-251B-4962-91B9-5A89578DD480}" srcId="{F0F81A63-7ED7-41DC-9892-A0E483D39A49}" destId="{76AECB33-C3FD-4FD0-A011-D23B3913B580}" srcOrd="0" destOrd="0" parTransId="{027C7094-4034-4947-91EC-BAE9EABC0081}" sibTransId="{DCC0DE10-079B-46A8-951F-5C6FF899E23B}"/>
    <dgm:cxn modelId="{1B7A74A6-B81A-4A1B-96A6-7804410A6B42}" type="presOf" srcId="{301C561D-0C27-48A4-AF3E-886128B9B7F3}" destId="{0171C8BB-FA0A-495D-AA66-721B73390485}" srcOrd="0" destOrd="0" presId="urn:microsoft.com/office/officeart/2005/8/layout/chevron2"/>
    <dgm:cxn modelId="{156A79EF-1187-4E2A-A24E-F9CEC59FA4A4}" type="presOf" srcId="{6B3E51C4-651E-4815-B39D-E945C0358781}" destId="{835A8605-A096-4AFB-B569-E4F0906E218E}" srcOrd="0" destOrd="0" presId="urn:microsoft.com/office/officeart/2005/8/layout/chevron2"/>
    <dgm:cxn modelId="{9F69D7F8-4021-42E2-9D7C-E396F7B5E457}" srcId="{E29D31DE-1733-415D-BCD7-52FE7D025DC9}" destId="{FEDF77E4-0839-4D4F-9144-6E7309CB7FA8}" srcOrd="0" destOrd="0" parTransId="{0646CA2E-EE29-47CE-9588-8C09A67898DD}" sibTransId="{DCCBF545-3D64-4048-8DB5-225B5DBDE372}"/>
    <dgm:cxn modelId="{8BF6F4E4-046C-4A51-A3B3-D3B633F54E92}" type="presOf" srcId="{E29D31DE-1733-415D-BCD7-52FE7D025DC9}" destId="{5745180A-9D7B-4C32-B4F8-4F9C3AF12B80}" srcOrd="0" destOrd="0" presId="urn:microsoft.com/office/officeart/2005/8/layout/chevron2"/>
    <dgm:cxn modelId="{6C77749D-90D0-4F8D-8BF5-C495D5869B8A}" type="presParOf" srcId="{D75C14F7-7647-44FD-9F25-E081D508FD81}" destId="{A9532DA5-F361-4237-B973-0DC49F55EE48}" srcOrd="0" destOrd="0" presId="urn:microsoft.com/office/officeart/2005/8/layout/chevron2"/>
    <dgm:cxn modelId="{141DCC57-E6C1-4F09-8535-9281FF68EA33}" type="presParOf" srcId="{A9532DA5-F361-4237-B973-0DC49F55EE48}" destId="{F8BE8BA7-7225-4F90-9180-0285823F773C}" srcOrd="0" destOrd="0" presId="urn:microsoft.com/office/officeart/2005/8/layout/chevron2"/>
    <dgm:cxn modelId="{8AF74147-7D1D-49CA-BF96-A3CD70FACF1A}" type="presParOf" srcId="{A9532DA5-F361-4237-B973-0DC49F55EE48}" destId="{5B9B9CE7-E432-4A65-B832-25990C93D580}" srcOrd="1" destOrd="0" presId="urn:microsoft.com/office/officeart/2005/8/layout/chevron2"/>
    <dgm:cxn modelId="{B9101FE6-F791-4068-BB61-47D7DF03444A}" type="presParOf" srcId="{D75C14F7-7647-44FD-9F25-E081D508FD81}" destId="{8349B932-21F9-4250-9FF9-C120550F844C}" srcOrd="1" destOrd="0" presId="urn:microsoft.com/office/officeart/2005/8/layout/chevron2"/>
    <dgm:cxn modelId="{B17CA0B7-35FD-4BBD-A66B-6B998B771073}" type="presParOf" srcId="{D75C14F7-7647-44FD-9F25-E081D508FD81}" destId="{87E699C6-2777-46DB-BD58-FB07AE3319DB}" srcOrd="2" destOrd="0" presId="urn:microsoft.com/office/officeart/2005/8/layout/chevron2"/>
    <dgm:cxn modelId="{FF684151-0191-4D0D-B5E0-59DD38E2CB6E}" type="presParOf" srcId="{87E699C6-2777-46DB-BD58-FB07AE3319DB}" destId="{046BECE5-80FA-4660-ACA4-FF697CB6B749}" srcOrd="0" destOrd="0" presId="urn:microsoft.com/office/officeart/2005/8/layout/chevron2"/>
    <dgm:cxn modelId="{C3678F06-BD27-4E4B-94DD-36E12261493A}" type="presParOf" srcId="{87E699C6-2777-46DB-BD58-FB07AE3319DB}" destId="{EE848C31-3495-47EC-A8F2-233B66CCBFF9}" srcOrd="1" destOrd="0" presId="urn:microsoft.com/office/officeart/2005/8/layout/chevron2"/>
    <dgm:cxn modelId="{565B90DE-976C-43CC-970C-F0DFA65957D7}" type="presParOf" srcId="{D75C14F7-7647-44FD-9F25-E081D508FD81}" destId="{0D093C16-08E1-4937-A53C-374B9240604D}" srcOrd="3" destOrd="0" presId="urn:microsoft.com/office/officeart/2005/8/layout/chevron2"/>
    <dgm:cxn modelId="{4BB162D6-54A1-4B50-A812-B8BDAEE2CBD1}" type="presParOf" srcId="{D75C14F7-7647-44FD-9F25-E081D508FD81}" destId="{84DFCA00-CC7E-45B5-B5A2-02A917EE8361}" srcOrd="4" destOrd="0" presId="urn:microsoft.com/office/officeart/2005/8/layout/chevron2"/>
    <dgm:cxn modelId="{4469ABF9-517A-4245-B6C7-04D0FB00578D}" type="presParOf" srcId="{84DFCA00-CC7E-45B5-B5A2-02A917EE8361}" destId="{5A033AB5-3EF5-420B-8350-23D9C3EAB705}" srcOrd="0" destOrd="0" presId="urn:microsoft.com/office/officeart/2005/8/layout/chevron2"/>
    <dgm:cxn modelId="{F817E5E1-32C5-4D82-8771-F2022F91576A}" type="presParOf" srcId="{84DFCA00-CC7E-45B5-B5A2-02A917EE8361}" destId="{835A8605-A096-4AFB-B569-E4F0906E218E}" srcOrd="1" destOrd="0" presId="urn:microsoft.com/office/officeart/2005/8/layout/chevron2"/>
    <dgm:cxn modelId="{B98F6D18-52B2-4B70-9C6F-4DF66162F5E4}" type="presParOf" srcId="{D75C14F7-7647-44FD-9F25-E081D508FD81}" destId="{94DECE45-AEF9-4B52-9211-377FB52CB8D0}" srcOrd="5" destOrd="0" presId="urn:microsoft.com/office/officeart/2005/8/layout/chevron2"/>
    <dgm:cxn modelId="{E185B77D-9770-4B2C-96CD-A0C83E4489D4}" type="presParOf" srcId="{D75C14F7-7647-44FD-9F25-E081D508FD81}" destId="{846AFF70-E9A6-4E4B-952B-34C7EF9632A2}" srcOrd="6" destOrd="0" presId="urn:microsoft.com/office/officeart/2005/8/layout/chevron2"/>
    <dgm:cxn modelId="{78EE7CA3-FA8F-4C44-96B4-F2AAF20FEFB4}" type="presParOf" srcId="{846AFF70-E9A6-4E4B-952B-34C7EF9632A2}" destId="{4D168BB2-DFBF-4F69-8214-3CA6D594B75A}" srcOrd="0" destOrd="0" presId="urn:microsoft.com/office/officeart/2005/8/layout/chevron2"/>
    <dgm:cxn modelId="{6CB2FBD6-1E2C-4884-90D7-EC5C18CD2017}" type="presParOf" srcId="{846AFF70-E9A6-4E4B-952B-34C7EF9632A2}" destId="{0171C8BB-FA0A-495D-AA66-721B73390485}" srcOrd="1" destOrd="0" presId="urn:microsoft.com/office/officeart/2005/8/layout/chevron2"/>
    <dgm:cxn modelId="{E88494E8-0226-4323-83DF-7A2B8A46022C}" type="presParOf" srcId="{D75C14F7-7647-44FD-9F25-E081D508FD81}" destId="{C9995DFD-9554-4EA4-A88E-A1C21B947D7D}" srcOrd="7" destOrd="0" presId="urn:microsoft.com/office/officeart/2005/8/layout/chevron2"/>
    <dgm:cxn modelId="{0E6BFECB-10F8-4EEB-BCFA-F49DFCE9A92D}" type="presParOf" srcId="{D75C14F7-7647-44FD-9F25-E081D508FD81}" destId="{9236855D-E3F9-4A6B-B2E9-4720C2192D82}" srcOrd="8" destOrd="0" presId="urn:microsoft.com/office/officeart/2005/8/layout/chevron2"/>
    <dgm:cxn modelId="{BF327FBD-45F9-465C-85CA-5FD9B5AF450C}" type="presParOf" srcId="{9236855D-E3F9-4A6B-B2E9-4720C2192D82}" destId="{5745180A-9D7B-4C32-B4F8-4F9C3AF12B80}" srcOrd="0" destOrd="0" presId="urn:microsoft.com/office/officeart/2005/8/layout/chevron2"/>
    <dgm:cxn modelId="{F0D42A0C-9E9A-4DA3-90E4-81E069028E1F}" type="presParOf" srcId="{9236855D-E3F9-4A6B-B2E9-4720C2192D82}" destId="{ACF71AD0-FB08-482A-A9E1-A5B064333AF8}" srcOrd="1" destOrd="0" presId="urn:microsoft.com/office/officeart/2005/8/layout/chevron2"/>
  </dgm:cxnLst>
  <dgm:bg/>
  <dgm:whole/>
  <dgm:extLst>
    <a:ext uri="http://schemas.microsoft.com/office/drawing/2008/diagram">
      <dsp:dataModelExt xmlns:dsp="http://schemas.microsoft.com/office/drawing/2008/diagram" relId="rId7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chevron2">
  <dgm:title val=""/>
  <dgm:desc val=""/>
  <dgm:catLst>
    <dgm:cat type="process" pri="12000"/>
    <dgm:cat type="list" pri="16000"/>
    <dgm:cat type="convert" pri="1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</dgm:ptLst>
      <dgm:cxnLst>
        <dgm:cxn modelId="4" srcId="0" destId="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linearFlow">
    <dgm:varLst>
      <dgm:dir/>
      <dgm:animLvl val="lvl"/>
      <dgm:resizeHandles val="exact"/>
    </dgm:varLst>
    <dgm:alg type="lin">
      <dgm:param type="linDir" val="fromT"/>
      <dgm:param type="nodeHorzAlign" val="l"/>
    </dgm:alg>
    <dgm:shape xmlns:r="http://schemas.openxmlformats.org/officeDocument/2006/relationships" r:blip="">
      <dgm:adjLst/>
    </dgm:shape>
    <dgm:presOf/>
    <dgm:constrLst>
      <dgm:constr type="h" for="ch" forName="composite" refType="h"/>
      <dgm:constr type="w" for="ch" forName="composite" refType="w"/>
      <dgm:constr type="h" for="des" forName="parentText" op="equ"/>
      <dgm:constr type="h" for="ch" forName="sp" val="-14.88"/>
      <dgm:constr type="h" for="ch" forName="sp" refType="w" refFor="des" refForName="parentText" op="gte" fact="-0.3"/>
      <dgm:constr type="primFontSz" for="des" forName="parentText" op="equ" val="65"/>
      <dgm:constr type="primFontSz" for="des" forName="descendantText" op="equ" val="65"/>
    </dgm:constrLst>
    <dgm:ruleLst/>
    <dgm:forEach name="Name0" axis="ch" ptType="node">
      <dgm:layoutNode name="composite">
        <dgm:alg type="composite"/>
        <dgm:shape xmlns:r="http://schemas.openxmlformats.org/officeDocument/2006/relationships" r:blip="">
          <dgm:adjLst/>
        </dgm:shape>
        <dgm:presOf/>
        <dgm:choose name="Name1">
          <dgm:if name="Name2" func="var" arg="dir" op="equ" val="norm">
            <dgm:constrLst>
              <dgm:constr type="t" for="ch" forName="parentText"/>
              <dgm:constr type="l" for="ch" forName="parentText"/>
              <dgm:constr type="w" for="ch" forName="parentText" refType="w" fact="0.4"/>
              <dgm:constr type="h" for="ch" forName="parentText" refType="h"/>
              <dgm:constr type="w" for="ch" forName="parentText" refType="w" op="lte" fact="0.5"/>
              <dgm:constr type="w" for="ch" forName="parentText" refType="h" refFor="ch" refForName="parentText" op="lte" fact="0.7"/>
              <dgm:constr type="h" for="ch" forName="parentText" refType="w" refFor="ch" refForName="parentText" op="lte" fact="3"/>
              <dgm:constr type="l" for="ch" forName="descendantText" refType="w" refFor="ch" refForName="parentText"/>
              <dgm:constr type="w" for="ch" forName="descendantText" refType="w"/>
              <dgm:constr type="wOff" for="ch" forName="descendantText" refType="w" refFor="ch" refForName="parentText" fact="-1"/>
              <dgm:constr type="t" for="ch" forName="descendantText"/>
              <dgm:constr type="b" for="ch" forName="descendantText" refType="h" refFor="ch" refForName="parentText"/>
              <dgm:constr type="bOff" for="ch" forName="descendantText" refType="w" refFor="ch" refForName="parentText" fact="-0.5"/>
            </dgm:constrLst>
          </dgm:if>
          <dgm:else name="Name3">
            <dgm:constrLst>
              <dgm:constr type="t" for="ch" forName="parentText"/>
              <dgm:constr type="r" for="ch" forName="parentText" refType="w"/>
              <dgm:constr type="w" for="ch" forName="parentText" refType="w" fact="0.4"/>
              <dgm:constr type="h" for="ch" forName="parentText" refType="h"/>
              <dgm:constr type="w" for="ch" forName="parentText" refType="w" op="lte" fact="0.5"/>
              <dgm:constr type="w" for="ch" forName="parentText" refType="h" refFor="ch" refForName="parentText" op="lte" fact="0.7"/>
              <dgm:constr type="h" for="ch" forName="parentText" refType="w" refFor="ch" refForName="parentText" op="lte" fact="3"/>
              <dgm:constr type="l" for="ch" forName="descendantText"/>
              <dgm:constr type="w" for="ch" forName="descendantText" refType="w"/>
              <dgm:constr type="wOff" for="ch" forName="descendantText" refType="w" refFor="ch" refForName="parentText" fact="-1"/>
              <dgm:constr type="t" for="ch" forName="descendantText"/>
              <dgm:constr type="b" for="ch" forName="descendantText" refType="h" refFor="ch" refForName="parentText"/>
              <dgm:constr type="bOff" for="ch" forName="descendantText" refType="w" refFor="ch" refForName="parentText" fact="-0.5"/>
            </dgm:constrLst>
          </dgm:else>
        </dgm:choose>
        <dgm:ruleLst/>
        <dgm:layoutNode name="parentText" styleLbl="alignNode1">
          <dgm:varLst>
            <dgm:chMax val="1"/>
            <dgm:bulletEnabled val="1"/>
          </dgm:varLst>
          <dgm:alg type="tx"/>
          <dgm:shape xmlns:r="http://schemas.openxmlformats.org/officeDocument/2006/relationships" rot="90" type="chevron" r:blip="">
            <dgm:adjLst/>
          </dgm:shape>
          <dgm:presOf axis="self" ptType="node"/>
          <dgm:constrLst>
            <dgm:constr type="lMarg" refType="primFontSz" fact="0.05"/>
            <dgm:constr type="rMarg" refType="primFontSz" fact="0.05"/>
            <dgm:constr type="tMarg" refType="primFontSz" fact="0.05"/>
            <dgm:constr type="bMarg" refType="primFontSz" fact="0.05"/>
          </dgm:constrLst>
          <dgm:ruleLst>
            <dgm:rule type="h" val="100" fact="NaN" max="NaN"/>
            <dgm:rule type="primFontSz" val="24" fact="NaN" max="NaN"/>
            <dgm:rule type="h" val="110" fact="NaN" max="NaN"/>
            <dgm:rule type="primFontSz" val="18" fact="NaN" max="NaN"/>
            <dgm:rule type="h" val="INF" fact="NaN" max="NaN"/>
            <dgm:rule type="primFontSz" val="5" fact="NaN" max="NaN"/>
          </dgm:ruleLst>
        </dgm:layoutNode>
        <dgm:layoutNode name="descendantText" styleLbl="alignAcc1">
          <dgm:varLst>
            <dgm:bulletEnabled val="1"/>
          </dgm:varLst>
          <dgm:choose name="Name4">
            <dgm:if name="Name5" func="var" arg="dir" op="equ" val="norm">
              <dgm:alg type="tx">
                <dgm:param type="stBulletLvl" val="1"/>
                <dgm:param type="txAnchorVertCh" val="mid"/>
              </dgm:alg>
              <dgm:shape xmlns:r="http://schemas.openxmlformats.org/officeDocument/2006/relationships" rot="90" type="round2SameRect" r:blip="">
                <dgm:adjLst/>
              </dgm:shape>
            </dgm:if>
            <dgm:else name="Name6">
              <dgm:alg type="tx">
                <dgm:param type="stBulletLvl" val="1"/>
                <dgm:param type="txAnchorVertCh" val="mid"/>
              </dgm:alg>
              <dgm:shape xmlns:r="http://schemas.openxmlformats.org/officeDocument/2006/relationships" rot="-90" type="round2SameRect" r:blip="">
                <dgm:adjLst/>
              </dgm:shape>
            </dgm:else>
          </dgm:choose>
          <dgm:presOf axis="des" ptType="node"/>
          <dgm:choose name="Name7">
            <dgm:if name="Name8" func="var" arg="dir" op="equ" val="norm">
              <dgm:constrLst>
                <dgm:constr type="secFontSz" refType="primFontSz"/>
                <dgm:constr type="tMarg" refType="primFontSz" fact="0.05"/>
                <dgm:constr type="bMarg" refType="primFontSz" fact="0.05"/>
                <dgm:constr type="rMarg" refType="primFontSz" fact="0.05"/>
              </dgm:constrLst>
            </dgm:if>
            <dgm:else name="Name9">
              <dgm:constrLst>
                <dgm:constr type="secFontSz" refType="primFontSz"/>
                <dgm:constr type="tMarg" refType="primFontSz" fact="0.05"/>
                <dgm:constr type="bMarg" refType="primFontSz" fact="0.05"/>
                <dgm:constr type="lMarg" refType="primFontSz" fact="0.05"/>
              </dgm:constrLst>
            </dgm:else>
          </dgm:choose>
          <dgm:ruleLst>
            <dgm:rule type="primFontSz" val="5" fact="NaN" max="NaN"/>
          </dgm:ruleLst>
        </dgm:layoutNode>
      </dgm:layoutNode>
      <dgm:forEach name="Name10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 axis="self"/>
          <dgm:constrLst>
            <dgm:constr type="w" val="1"/>
            <dgm:constr type="h" val="37.5"/>
          </dgm:constrLst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8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9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10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5277C0-D17E-4899-97A7-F30EE02D5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8A99971-C41D-4E6A-833C-3936E4F012E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4AEC2-8B0D-49FE-9C63-367BA5CBAD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AB93D-986E-427F-9F27-C79A0707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5B7B7-343B-4C1D-8EA2-78B50E29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47F25-062F-4C2A-90E4-8BBEF03EBD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F0E7F-A592-4AEE-BEF5-BFCDC7E102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DF0E1-539A-4B22-8981-5D1F09C003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0D242-6FAD-4903-87EF-71290053CB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6D40D-E4B8-4F31-A1AE-E21ED6D395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0F350-ED66-4F75-8475-126AD0232E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ABBA7-65AF-46A4-8807-D0DC8A8639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C7DFA-35B6-4F9E-B573-3AAF880A98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BD3A3-5D5D-4B62-82F6-060E0349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CE41B-0581-4C36-A29D-F71F04BF26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43CC91-AF28-471D-B8C0-E3EC51724D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4D4F2-26C7-4B74-B639-8C245B5A67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DE303-EA74-4D7E-9DD1-6F34F7D44D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1314E-9C72-4B44-833F-7327CAA9C3C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D3842C-7FD7-49CC-B3A5-7249064FD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2F4C49-E5A6-4C4F-B91C-5F638661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861555-A31A-448B-B97C-02FBD1B5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80BAD8-5558-443C-B52D-916BF056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335131-ACC2-4F45-84D3-03DBC5DA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68962-F42F-498A-8F6A-EF999A09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B37414-ACC2-47F2-82A7-296018A5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EEDE75-84EE-47D4-9444-F6D795F9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3B8592-5EEF-4E8B-BD06-D66151F6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6DE817-7B11-4FF4-AB75-5AF87859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7202FF-5181-4BC4-924E-DA14D1F5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BB01BB-3ECD-43D6-9AF8-C17A5D5AD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888222-2D2F-4114-97CF-EA542F632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CA064-E20D-4A04-B39D-4C811EFE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6A445-E5EB-4267-9F3F-ECEA3B0D4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FC443-522A-4CE6-88E0-84266F4C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87A25-E159-4E21-BC22-977D660D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B13C4-E6D6-4B3D-ADD4-39D1BC75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1D8C3-0672-4344-8F39-3253BFA6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3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4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7280" y="758880"/>
            <a:ext cx="10058040" cy="356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rtl="1">
              <a:lnSpc>
                <a:spcPct val="85000"/>
              </a:lnSpc>
              <a:buNone/>
            </a:pPr>
            <a:r>
              <a:rPr b="1" lang="en-US" sz="8000" spc="-52" strike="noStrike">
                <a:solidFill>
                  <a:srgbClr val="262626"/>
                </a:solidFill>
                <a:latin typeface="Calibri Light"/>
              </a:rPr>
              <a:t>Click to edit Master title styl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FB7E66-FF65-41B0-9206-F8082C3A8946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" name="Straight Connector 8"/>
          <p:cNvCxnSpPr/>
          <p:nvPr/>
        </p:nvCxnSpPr>
        <p:spPr>
          <a:xfrm>
            <a:off x="1207440" y="4343400"/>
            <a:ext cx="987588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51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52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0760" y="6446880"/>
            <a:ext cx="4822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6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6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4"/>
          </p:nvPr>
        </p:nvSpPr>
        <p:spPr>
          <a:xfrm>
            <a:off x="11649240" y="642672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1E468C-2173-4C6A-87A4-E86A4B660962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96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97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0" y="4952880"/>
            <a:ext cx="12188520" cy="190476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0" y="491508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7280" y="507492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en-US" sz="3600" spc="-52" strike="noStrike">
                <a:solidFill>
                  <a:srgbClr val="ffffff"/>
                </a:solidFill>
                <a:latin typeface="Calibri Light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2191760" cy="4914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txBody>
          <a:bodyPr lIns="457200" rIns="90000" tIns="4572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icon to add picture</a:t>
            </a:r>
            <a:endParaRPr b="1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body"/>
          </p:nvPr>
        </p:nvSpPr>
        <p:spPr>
          <a:xfrm>
            <a:off x="1097280" y="5906880"/>
            <a:ext cx="10112760" cy="59400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indent="0" algn="r" rtl="1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Edit Master text styles</a:t>
            </a:r>
            <a:endParaRPr b="1" lang="en-US" sz="15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dt" idx="5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6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7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AA3F0A-CE4D-42ED-A3C3-CD64E131CE5D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71760" y="2165040"/>
            <a:ext cx="9143640" cy="202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30000"/>
              </a:lnSpc>
              <a:buNone/>
            </a:pPr>
            <a:r>
              <a:rPr b="1" lang="en-US" sz="4400" spc="-52" strike="noStrike">
                <a:solidFill>
                  <a:srgbClr val="1a2884"/>
                </a:solidFill>
                <a:latin typeface="Calibri Light"/>
              </a:rPr>
              <a:t> پیشگیری از آتش سوز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523880" y="4592520"/>
            <a:ext cx="9239400" cy="18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buNone/>
            </a:pPr>
            <a:endParaRPr b="1" lang="en-US" sz="2400" spc="199" strike="noStrike" cap="all">
              <a:solidFill>
                <a:srgbClr val="335b74"/>
              </a:solidFill>
              <a:latin typeface="Calibri Light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9331920" y="76320"/>
            <a:ext cx="2863440" cy="1259640"/>
          </a:xfrm>
          <a:prstGeom prst="rect">
            <a:avLst/>
          </a:prstGeom>
          <a:ln w="9525">
            <a:noFill/>
          </a:ln>
        </p:spPr>
      </p:pic>
      <p:sp>
        <p:nvSpPr>
          <p:cNvPr id="151" name="PlaceHolder 3"/>
          <p:cNvSpPr>
            <a:spLocks noGrp="1"/>
          </p:cNvSpPr>
          <p:nvPr>
            <p:ph type="ftr" idx="11"/>
          </p:nvPr>
        </p:nvSpPr>
        <p:spPr>
          <a:xfrm>
            <a:off x="3515040" y="362268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SG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SG" sz="1400" spc="-1" strike="noStrike">
                <a:solidFill>
                  <a:srgbClr val="ffffff"/>
                </a:solidFill>
                <a:latin typeface="Calibri"/>
              </a:rPr>
              <a:t>Dehghani.Am64@gmail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840D4-ECFD-454F-8298-BA3CAF61A29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آشپزخان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26360" y="1553400"/>
            <a:ext cx="108309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649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رفتارهاي ايمن در برابر سوختگي با مايعات: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راي جلوگيري از سقوط قابلمه، كتري، قوري و سماور آنها را در سطح جلو كابينت و يا اجاق گاز قرار نده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سيم كتري و سماور برقي بايد كوتاه باشد و به حالت آويزان نباش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ه محض جوش آمدن آب، سيم را از پريزبرق و كتري خارج 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تاوه را لبريز از روغن يا كره داغ ن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D8976-8514-4031-9C7D-64E5F5D1C9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آشپزخان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26360" y="1553400"/>
            <a:ext cx="108309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5000"/>
          </a:bodyPr>
          <a:p>
            <a:pPr marL="685800" indent="-434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صورت آتش گرفتن ظروف حاوي روغن مثل ماهي تابه، درپوش آن را بگذاريد و آب روي آن نپاش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85800" indent="-434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سماور را بر روي سطح صاف و هموار قرار ده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85800" indent="-434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سماور بايد از نظر تكنيكي سالم باشد تا خطري ايجاد نكن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85800" indent="-434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قرار دادن کبریت و مواد آتش زا و اسپری ها در کنار گاز خودداری کنی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85800" indent="-434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یک کپسول اطفا حریق کوچک در اشپزخانه داشته باشی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79F69-81EE-4C66-A41C-8D0E764302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39320" y="550800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fa-IR" sz="3600" spc="-52" strike="noStrike">
                <a:solidFill>
                  <a:srgbClr val="ffffff"/>
                </a:solidFill>
                <a:latin typeface="Calibri Light"/>
                <a:cs typeface="B Titr"/>
              </a:rPr>
              <a:t>ایمنی در اتاق خوا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86" name="Picture Placeholder 3" descr=""/>
          <p:cNvPicPr/>
          <p:nvPr/>
        </p:nvPicPr>
        <p:blipFill>
          <a:blip r:embed="rId2"/>
          <a:srcRect l="0" t="29837" r="0" b="29837"/>
          <a:stretch/>
        </p:blipFill>
        <p:spPr>
          <a:xfrm>
            <a:off x="0" y="0"/>
            <a:ext cx="12191760" cy="49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52108F-130A-4B90-ABF1-7EA23FC32D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اتاق خوا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26360" y="1553400"/>
            <a:ext cx="108309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5000"/>
          </a:bodyPr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هيچگاه در رختخواب سيگار نكش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اتاق خواب آشپزی نکنی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لحاف و تشك نبايد به منبع حرارت  در زير كرسي نزديك باش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نصب شومينه، بخاري ديواري و چراغ روشنايي در اتاق خواب خودداري نماي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منقل كرسي نبايد پر شود و زير آن صفحه عايق يا نسوز قرار گير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راي گرم كردن كرسي از چراغ خوراك پزي استفاده ن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بخاری های ایمن استفاد شو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A6430-7042-42FE-B803-46EB0E4245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39320" y="550800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fa-IR" sz="3600" spc="-52" strike="noStrike">
                <a:solidFill>
                  <a:srgbClr val="ffffff"/>
                </a:solidFill>
                <a:latin typeface="Calibri Light"/>
                <a:cs typeface="B Titr"/>
              </a:rPr>
              <a:t>ایمنی در سرویس بهداشت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92" name="Picture Placeholder 5" descr=""/>
          <p:cNvPicPr/>
          <p:nvPr/>
        </p:nvPicPr>
        <p:blipFill>
          <a:blip r:embed="rId2"/>
          <a:srcRect l="0" t="14152" r="0" b="14152"/>
          <a:stretch/>
        </p:blipFill>
        <p:spPr>
          <a:xfrm>
            <a:off x="0" y="0"/>
            <a:ext cx="12191760" cy="49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9431DD-950A-4090-9628-FEC5C1200C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سرویس بهداشتی و حما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26360" y="2106000"/>
            <a:ext cx="10830960" cy="4271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جهت لكه گيري لباسهاي پشمي و نايلوني از مواد قابل اشتعال مثل بنزين و تينر به خصوص در فضاهای بسته مثل حمام استفاده نک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نگهداری مواد اشتعال زا در حمام و سرویس بهداشتی خودداری کنی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45C85-17C9-4BBD-9AD8-FFFE320FF2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39320" y="550800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fa-IR" sz="3600" spc="-52" strike="noStrike">
                <a:solidFill>
                  <a:srgbClr val="ffffff"/>
                </a:solidFill>
                <a:latin typeface="Calibri Light"/>
                <a:cs typeface="B Titr"/>
              </a:rPr>
              <a:t>ایمنی در مدار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98" name="Picture Placeholder 3" descr=""/>
          <p:cNvPicPr/>
          <p:nvPr/>
        </p:nvPicPr>
        <p:blipFill>
          <a:blip r:embed="rId2"/>
          <a:srcRect l="0" t="29834" r="0" b="29834"/>
          <a:stretch/>
        </p:blipFill>
        <p:spPr>
          <a:xfrm>
            <a:off x="0" y="0"/>
            <a:ext cx="12191760" cy="49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9F67BB-72C3-4CE5-9C86-1A0825ADCC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مدار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05200" y="1553400"/>
            <a:ext cx="11652120" cy="4747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0000"/>
          </a:bodyPr>
          <a:p>
            <a:pPr marL="594720" indent="-376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انباري يا هر محل ديگر، زباله هاي آتش گير مثل چوب، خاك اره، ذغال، كاغذ و خار و خاشاك انباشته ن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94720" indent="-376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مايعات قابل اشتعال مثل چسب موكت، نفت، گازوئيل و ... را در خانه و مدرسه (به ويژه درزيرزمين و پاركينگ) نگه ندار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94720" indent="-376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ستفاده و كاربردهاي ديگر از موتورخانه(سيستم حرارت مركزي شوفاژ) ممنوع مي‌باشد،  به عنوان مثال: انبار و نگهداري كاغذ و اقلامي كه آتش زا هستن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94720" indent="-376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جمع آوري و انبار نمودن روغن، گريس، كهنه هاي روغني، نخاله هاي آلوده به روغن و مواد نفتي و نظاير آن بر روي وسايل و تجهيزات ساختماني يا در مجاورت آنها مجاز نيست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94720" indent="-376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نواع وسايل گرمازا نظير بخاري برقي يا گازي، اجاق گاز، فر، سماور، پيك نيك و ... بايد حفاظ مناسب داشته باشن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C1EBE-E1AF-4B8D-B600-2FFAD5743B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مدار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2320" y="1553400"/>
            <a:ext cx="1147500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4000"/>
          </a:bodyPr>
          <a:p>
            <a:pPr marL="65556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بخاري و اجاق هايي استفاده كنيد كه سطح خارجي آنها با لايه عايق يا حفاظ ايمني پوشيده شده باش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5556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تانكر نفت، در محوطه حياط و دور از مواد قابل اشتعال مثل چوب، كاه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  و ... بوده و درب آن كاملا بسته نباشد تا گازهاي توليد شده در اثر تابش خورشيد از آن خارج شو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5556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كليه وسايل گازسوز بايد با استانداردهاي ملي مربوط به آن دستگاه مطابقت داشته و توسط افرادي كه داراي پروانه صلاحيت باشند، نصب و راه اندازي شو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5556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تبديل وسايلي كه با سوخت هاي ديگر كار مي كنند به وسايل گاز سوز خودداري نمايي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AC934-5822-441F-B1FC-46F5176D46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مدار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26360" y="1553400"/>
            <a:ext cx="108309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3000"/>
          </a:bodyPr>
          <a:p>
            <a:pPr marL="671400" indent="-425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زير بخاريهايي كه با سوخت جامد كار مي كنند صفحه اي نسوز يا عايق قرار دهي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71400" indent="-425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قرار دادن وسايل گرمايي و بخاري در مسير رفت و آمد خودداري نماي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71400" indent="-425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مخازن نگهداری نفت و گازوئيل بايد دوراز دسترس کودکان قرار داده شود و محتوای داخل آن برای کودکان قابل دستيابی نباشد 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71400" indent="-425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404040"/>
                </a:solidFill>
                <a:latin typeface="Calibri"/>
                <a:cs typeface="B Nazanin"/>
              </a:rPr>
              <a:t>پيچ هاي روشن و خاموش كردن اجاق گاز بايد دور از دسترس كودكان قرار گيرد و اگر قفل شود بهتر است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D27AC0-9908-4A29-9939-4CE236AA51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800" spc="-52" strike="noStrike">
              <a:solidFill>
                <a:srgbClr val="b4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55" name="Picture 2" descr="Image result for بسم الله الرحمن الرحيم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0" y="6267240"/>
            <a:ext cx="1386720" cy="5904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.Ghomi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AE43E-E993-4A75-BB06-A79F92F0B9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مدار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26360" y="2216880"/>
            <a:ext cx="10830960" cy="4160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گر لوله كشي گاز از روي پشت بام عبور مي كند بايد در معرض برخورد با اجسام خارجي و مسير عبور و مرور نباش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زنگ زدگي لوله كشي گاز در اثر تماس طولاني با آب باران و برف جلوگيري به عمل آ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BBF19-586B-440E-9E84-7E2CA10537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با تشکر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Content Placeholder 7" descr=""/>
          <p:cNvPicPr/>
          <p:nvPr/>
        </p:nvPicPr>
        <p:blipFill>
          <a:blip r:embed="rId1"/>
          <a:stretch/>
        </p:blipFill>
        <p:spPr>
          <a:xfrm>
            <a:off x="1947960" y="1707480"/>
            <a:ext cx="8629200" cy="43146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11031480" y="123840"/>
            <a:ext cx="1149840" cy="114984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214" name="Object 3"/>
          <p:cNvGraphicFramePr/>
          <p:nvPr/>
        </p:nvGraphicFramePr>
        <p:xfrm>
          <a:off x="92160" y="92160"/>
          <a:ext cx="553680" cy="371160"/>
        </p:xfrm>
        <a:graphic>
          <a:graphicData uri="http://schemas.openxmlformats.org/presentationml/2006/ole">
            <p:oleObj progId="Package" r:id="rId3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160" y="92160"/>
                    <a:ext cx="553680" cy="37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ED8EF-6638-4B4E-96AA-F53DB158F4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نواع مواد آتش زا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814719430"/>
              </p:ext>
            </p:extLst>
          </p:nvPr>
        </p:nvGraphicFramePr>
        <p:xfrm>
          <a:off x="1079280" y="1536480"/>
          <a:ext cx="10472400" cy="47930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A0335-07EB-4F1D-8CB6-3393EBF1DB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39320" y="550800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fa-IR" sz="3600" spc="-52" strike="noStrike">
                <a:solidFill>
                  <a:srgbClr val="ffffff"/>
                </a:solidFill>
                <a:latin typeface="Calibri Light"/>
                <a:cs typeface="B Titr"/>
              </a:rPr>
              <a:t>ایمنی در اتاق نشیمن و پذیرای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Placeholder 8" descr=""/>
          <p:cNvPicPr/>
          <p:nvPr/>
        </p:nvPicPr>
        <p:blipFill>
          <a:blip r:embed="rId1"/>
          <a:srcRect l="0" t="26480" r="0" b="26480"/>
          <a:stretch/>
        </p:blipFill>
        <p:spPr>
          <a:xfrm>
            <a:off x="0" y="0"/>
            <a:ext cx="12191760" cy="4914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"/>
          <p:cNvPicPr/>
          <p:nvPr/>
        </p:nvPicPr>
        <p:blipFill>
          <a:blip r:embed="rId2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4E41D2-3A6C-427F-96C6-1979DF8005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اتاق نشیمن و پذیرای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300560" y="1553400"/>
            <a:ext cx="75567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7000"/>
          </a:bodyPr>
          <a:p>
            <a:pPr marL="700200" indent="-443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قرار دادن بخاری، والور و ساير وسائل آتش زا در وسط اتاق و در مسير تردد خودداری 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00200" indent="-443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چاي و ساير نوشيدني هاي داغ و هر نوع ظرف حاوي مايعات داغ را در وسط اتاق و محل رفت و آمد نگذار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00200" indent="-443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ظرف غذا و كتري را روي بخاري و ديگر وسايل گرمايي در داخل اطاق قرار نده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892440" y="2725920"/>
            <a:ext cx="2761200" cy="2255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EBD06-5C37-4388-849F-654BD9818E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اتاق نشیمن و پذیرای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553400"/>
            <a:ext cx="1129104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2000"/>
          </a:bodyPr>
          <a:p>
            <a:pPr marL="611640" indent="-3870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شومينه را تميز نگه داريد و براي آن يك شبكه محافظ فلزي تهيه 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11640" indent="-3870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ه منظور جلوگيري از خطر نشت گاز، شومينه بايستي مجهز به ترموكوپل و شير جداگانه قطع و وصل باش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11640" indent="-3870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نصب شومينه در اتاق هاي كوچك مي تواند خطرساز باشد. در اين گونه مواقع ترجيحاً از بخاري استفاده شو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11640" indent="-3870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شير شومينه بايد خارج از آن قرار داده شود تا در هنگام آتش سوزي احتمالي، بدون خطر بتوان گاز را قطع نمو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11640" indent="-3870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شير شومينه را در پايان فصل زمستان بسته و خروجي آن را با درپوش مسدود نماييد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9F5D8-9E4D-4053-8C59-F60F7612D2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39320" y="550800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fa-IR" sz="3600" spc="-52" strike="noStrike">
                <a:solidFill>
                  <a:srgbClr val="ffffff"/>
                </a:solidFill>
                <a:latin typeface="Calibri Light"/>
                <a:cs typeface="B Titr"/>
              </a:rPr>
              <a:t>ایمنی در آشپزخان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71" name="Picture Placeholder 5" descr=""/>
          <p:cNvPicPr/>
          <p:nvPr/>
        </p:nvPicPr>
        <p:blipFill>
          <a:blip r:embed="rId2"/>
          <a:srcRect l="0" t="16883" r="0" b="16883"/>
          <a:stretch/>
        </p:blipFill>
        <p:spPr>
          <a:xfrm>
            <a:off x="0" y="0"/>
            <a:ext cx="12191760" cy="49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62CCD7-7BC4-4F14-9AF7-3F3A867396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آشپزخان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71960" y="1553400"/>
            <a:ext cx="113853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649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رفتارهاي ايمن در برابر مواد آتش زاي جامد: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پوشيدن لباس هاي قابل اشتعال و يا گشاد و آستين بلند در هنگام كار با اجاق گاز بپرهيز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هنگام آشپزي با فاصله مناسب از اجاق گاز بايست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مراقب باشيد مو، آستين يا ساير قسمتهاي لباستان در تماس با شعله اجاق گاز قرار نگير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A8F8E-8BBF-475A-9818-4CC2865DBB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آشپزخان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53400"/>
            <a:ext cx="1094292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649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رفتارهاي ايمن در برابر اشياء داغ: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راي برداشتن در غذا از دستگيره مناسب(غير پلاستيك) استفاده 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هرگز از لبه آستين بجاي دستگيره براي برداشتن ظروف داغ استفاده ننماي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1B2443-12ED-4518-A571-F57D07C791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Retrospect</Template>
  <TotalTime>10933</TotalTime>
  <Application>LibreOffice/7.4.7.2$Linux_X86_64 LibreOffice_project/40$Build-2</Application>
  <AppVersion>15.0000</AppVersion>
  <Words>1030</Words>
  <Paragraphs>10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3T12:17:57Z</dcterms:created>
  <dc:creator>Z Gh</dc:creator>
  <dc:description/>
  <dc:language>en-US</dc:language>
  <cp:lastModifiedBy>mahnaz khoshmanzar shahroudi</cp:lastModifiedBy>
  <dcterms:modified xsi:type="dcterms:W3CDTF">2022-01-29T07:54:49Z</dcterms:modified>
  <cp:revision>1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Widescreen</vt:lpwstr>
  </property>
  <property fmtid="{D5CDD505-2E9C-101B-9397-08002B2CF9AE}" pid="4" name="Slides">
    <vt:r8>21</vt:r8>
  </property>
</Properties>
</file>